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3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12.png" ContentType="image/png"/>
  <Override PartName="/ppt/media/image7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8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9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30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3DD7-2EC5-43E1-A987-9F6336A53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C55E-6704-4ACD-B944-F5FBAA6FB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C3AD-0CEB-4C2C-87A8-92E307866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966D-3B6B-4ECF-AD76-E35F6985D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call quanta xact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clearer that implicit xacts are not user-specif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3C4C-6D25-4A31-B51A-D11B64659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25B3-E555-47C1-9745-07C42DC77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4477-391E-4B49-8779-87FB2AF6B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EAB7-C14C-4864-AE75-E19A51798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say “reduce overhead” – no “speedup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A986-FFA3-4BE7-ADA8-FFCCAD839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564C-E8BE-4C27-868C-729B48BDF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514D-470B-45F8-9586-58A4E17CF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solving a different proble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EB70-1DA1-4596-9A1D-C9A5A50D7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underlying reason that these bugs are so difficult to fix today, is that they are subject to the effects of nd insn interleav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D08C-0F52-468C-9BD0-D02D42974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here to present DMP, a new multiprocessor architecture that provides determinism, and all of its benefits, for arbitrary shared memory programs, with performance very comparable to that of today’s nondeterministic multiproces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concrete perf #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64E6-921C-450B-BA44-DB81295EE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serialize program when comm takes place – the rest of the time we can let things run in parallel. Since programs don’t comm all the time, this buys us a huge speed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O: need to provide more intuition for why we only care about communicating ins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licate -&gt; deterministically en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52AF-E4FB-4761-AD5C-1B863A416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31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+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bug is possible, but cumbersome due to lo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*nondet* exec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1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with all 4 use cases, but only for a subset of MT pro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1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det for arbitrary MT pro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ables new methods of debugging, testing, replicating and deploying robust parallel softwar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1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table: mention deterministic languages; DMP does not subsume these languages. DMP provides determinism for today’s MT programs, written in C/Ja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1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0A17-27AB-4DB2-8F70-115957E2E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443D-20B7-4CDA-96AC-5B25C9CF2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9349-C263-4C8F-ADCD-2834C72F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482-786E-431E-9E0D-C54AE698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B575C-6BD3-4270-9292-2CE1041D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FFE57-64D9-4D81-BD2A-90C8A430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74CD5-F20F-4315-9FE2-51842058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4536A-5B52-403E-9AB8-22A0F430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E945E-0A99-48CF-B096-BEB18373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85362-D1E7-437C-A1CD-C0761E1F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97B1B-0EA1-4120-BF0B-FD693411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A4924-38B8-4DF3-9873-396B3BDC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C0B5B-35EA-4A1E-8A22-F88D5A47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7440-8E16-48C2-ADED-EE5204A5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6B7B-DD49-4666-88E6-EE1BF0FB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2714-5752-4C22-BAB6-E33829E6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3C92-1B00-450B-AF33-6CE822F6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FAFB-F1D5-47C2-BEE5-D74ABE9B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0202-6A04-4A60-BAB9-5D536BEA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0895-EACF-4C67-B330-06D076BD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949D-1DDF-4A35-AD26-F0B111B2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BD90-A4E5-4B40-8414-9333B17B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E8D4-314C-4A7E-98B7-9724FADB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BDCB-451A-4CA9-977E-AE169B66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309F-E69B-456E-9B78-7E458796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86E7-1801-4538-8BA2-5EA49306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3BEB-E5D8-42E8-AC93-47600B4E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23E8-2436-46DC-A744-778E7D23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7D24F-247A-4A3A-AA44-8D64C4CC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D9294-470B-4FB1-90E9-6834ABB9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49E37-9FCD-4082-B4CB-F5FB12E1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DDE59D-718C-46CF-B40B-5DBBDCF2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24E78-DFA9-4F0D-8F18-252ECBBE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DC12-7C3B-4474-804A-70C3DC10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9F802-C470-4F68-B81E-59E20E27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D683F-7115-4BDB-A2DC-A119AD1C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697CE-D6E8-40A0-9D61-58FD86C3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E89C9-6470-4525-965F-FFB3CE82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19157-78AE-467B-83C5-51DD35CC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03793-10F6-48EE-86C0-3A61BE18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CA4B6-E805-40D4-878B-B154BD7F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93C300-CC6B-4541-8643-4C4D0B4A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E850E5-E1FB-44FE-A4F5-904C20FA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8DE43C-EB62-42F1-8011-91D8C093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E16-61AD-45F2-9E9A-DA586CCD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7DD8E9-0E40-4A06-93AE-FF842555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AE3259-A3BD-4576-AC3F-619FC45D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FD1307-CAD5-4FBA-BC68-D38DB34F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B56383-E0EB-4727-8EBD-F24EEF0D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899EFD-B3D6-4863-87AE-7DCEE40C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0965FD-894C-4087-853C-B4E9F4FA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2C1FE6-D570-470B-8129-1333157B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C667C9-8DF7-4D36-B478-1946373A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693C51-9561-4DB1-845F-985A6474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D922FB-B726-4D5B-8106-60F05846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4DC-4D4C-4DC7-863F-1676147E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9C1B9C-68A5-4D6D-884B-5AB8DF24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4930D-C220-4F48-A702-0B7ED3D6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49AA3-7CEA-4C16-8744-11489DC4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128671-9D5B-47B5-8506-52E49A46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404F05-1671-48F8-B4CE-259822D2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E9DEB6-B337-4D4B-A70B-03C76F01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2876EF-987D-4B6A-B995-758689D0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0D1535-ADC3-4FAA-B8D5-E2B5F80A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B887F7-9872-4C66-A74E-01F883EF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8FA446-F6AF-44D7-9743-880DDC92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365B-F670-463F-984D-3CCE9C78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E39747-B1CD-476C-871E-8E37489A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151A39-5731-4C04-8561-6105BFCE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E243B-299B-415C-BADF-64C1D73E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BB4BCE-42CF-4CED-B431-AA12D5C7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770BD3-A69E-4BB0-B015-BAF90686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AD55C7-C64B-41F2-A63C-F5FB3FF7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E0D15E-7237-4401-A944-C6D9DE05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75953C-BFA1-48BD-8349-DE35FD70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698DC2-11CB-4D05-B073-015EF15D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C1DA96-C75B-45A2-B01C-AB71602E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840D-672C-43B6-AA07-BD0F9C56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B026E-CD97-42BD-9165-D95349EF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672332-7B00-4655-BAC3-70DDEE2E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9BD458-C8DD-4FC4-A072-86DE030C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E0D69-A757-4F52-BCEA-E05FDBF2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1B866-1538-4543-921B-F426FB7B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D4859-D365-4F4A-9C9E-332468A5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E6BD7-7420-4654-AAE8-95F92DB0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21EAF-BB92-4467-B589-B2D9A54A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406E9-80F7-4518-A517-51BFAA47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A6662-E1A4-4506-B56C-D1D75444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AB51-DEB7-4353-A8F7-84BA69EE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18E79-C5E4-49AA-9C1E-015B4E5E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787BD-2758-43F4-97A0-31D43AE0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01892-52D3-4C7B-8D09-9A793E85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82902-CF44-4FB9-9883-53AE033F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34A4A-5D78-4B78-98CE-7A6D6D1C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0981CF-EC7E-4914-945B-97EF4F70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589337-EB2F-4D7E-AF5C-AAED33BF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E1D51E-7475-42B1-9A00-1E20B241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4354E6-1852-4B3A-979C-5933E5C1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3C3516-EC88-434C-90BD-26F848D6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25B9-BC8A-46B8-8EE8-5B781A86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2D1370-DD34-4316-AA53-3EB6E157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591B7C-7129-440B-8BCE-0BBE0869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73F4F3-534C-4254-A890-B3BA1031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B0F666-70AA-48AE-8CB6-4D938304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CAC1AE-34C6-4A79-A461-394C7CAA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A2C285-9C28-4ED0-8795-15207C14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0B53E7-2803-4D7C-AF2C-EDDB34AE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AFA0A-6258-4D6C-B271-A076918C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C516B-74AD-4E8D-A5C1-E256826E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A2C59-E755-47C5-ADD2-BE4C171C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FDB7-8450-4D75-89FE-967FCA2731A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2A13-6AB4-4CA4-A111-23487E8915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1066680" y="5432400"/>
            <a:ext cx="1478160" cy="13273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666880" y="5435640"/>
            <a:ext cx="6477120" cy="1320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7" name="Picture 14" descr="CSElogoText_250.jpg"/>
          <p:cNvPicPr/>
          <p:nvPr/>
        </p:nvPicPr>
        <p:blipFill>
          <a:blip r:embed="rId2"/>
          <a:stretch/>
        </p:blipFill>
        <p:spPr>
          <a:xfrm>
            <a:off x="69840" y="58453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sampalogo.png"/>
          <p:cNvPicPr/>
          <p:nvPr/>
        </p:nvPicPr>
        <p:blipFill>
          <a:blip r:embed="rId3"/>
          <a:stretch/>
        </p:blipFill>
        <p:spPr>
          <a:xfrm>
            <a:off x="55440" y="5410080"/>
            <a:ext cx="951120" cy="371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66680" y="6068520"/>
            <a:ext cx="1447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2AC3-DB4A-417E-8FFB-45664E915A52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C9CC-1F18-49E9-AB41-018E00364CFE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3" name="Picture 9" descr="CSElogoText_250.jpg"/>
          <p:cNvPicPr/>
          <p:nvPr/>
        </p:nvPicPr>
        <p:blipFill>
          <a:blip r:embed="rId2"/>
          <a:stretch/>
        </p:blipFill>
        <p:spPr>
          <a:xfrm>
            <a:off x="8458200" y="6172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sampalogo.png"/>
          <p:cNvPicPr/>
          <p:nvPr/>
        </p:nvPicPr>
        <p:blipFill>
          <a:blip r:embed="rId3"/>
          <a:stretch/>
        </p:blipFill>
        <p:spPr>
          <a:xfrm>
            <a:off x="81000" y="6427800"/>
            <a:ext cx="1101600" cy="430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095520" y="695016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0F3B-E2A1-47BA-9CE6-839A78B363FF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CC13-2CF4-4D92-A1F9-3466EC8DC4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9"/>
          </p:nvPr>
        </p:nvSpPr>
        <p:spPr>
          <a:xfrm>
            <a:off x="60912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8096-1793-4C21-BEDF-AE56A2983FCD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3092-D69C-419D-A87B-6C137919B009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FF21-61E8-4B24-B0EE-58E7DE8BCA4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3BF9-9C89-4F47-BA80-64AE60F73C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7597-EAC1-45EE-A1CC-880A44E7BDFB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FB08-7924-46AD-AE13-2D517CB6CEA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8330-3763-4DF3-BDE3-B76EE71B8D0A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93FC-2956-4B64-BECD-5993B4401997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DD31-869F-49FB-93D7-DE6DBB0F1A1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2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C911-29F7-4479-8590-B7B6DF6EE423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E439-0DAA-4CB6-A274-3C06A807E92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4155-617A-448C-9F60-FB3E30858C7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linuxforlovers.wordpress.com/2009/03/15/dmp-asplos-presentation-readme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666880" y="167652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w Cen MT"/>
              </a:rPr>
              <a:t>DMP</a:t>
            </a:r>
            <a:br>
              <a:rPr sz="7200"/>
            </a:br>
            <a:r>
              <a:rPr b="0" lang="en-US" sz="4000" spc="-1" strike="noStrike">
                <a:solidFill>
                  <a:srgbClr val="ffffff"/>
                </a:solidFill>
                <a:latin typeface="Tw Cen MT"/>
              </a:rPr>
              <a:t>Deterministic Shared Memory Multiprocessing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2666880" y="6049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Joe Devietti, Brandon Lucia, Luis Ceze, Mark Oski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7" name="Subtitle 6"/>
          <p:cNvSpPr/>
          <p:nvPr/>
        </p:nvSpPr>
        <p:spPr>
          <a:xfrm>
            <a:off x="1130400" y="5981760"/>
            <a:ext cx="1404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w Cen MT"/>
              </a:rPr>
              <a:t>University of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w Cen MT"/>
              </a:rPr>
              <a:t>Washingt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n we do better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nly need to serialize communicating instruc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reak each quantum into communication-free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parallel prefix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d communicative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serial suffix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Footer Placeholder 4"/>
          <p:cNvSpPr/>
          <p:nvPr/>
        </p:nvSpPr>
        <p:spPr>
          <a:xfrm>
            <a:off x="60948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9262-DAEC-41DC-BD78-E071263763A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51" name="ShockwaveFlash1"/>
          <p:cNvGraphicFramePr/>
          <p:nvPr/>
        </p:nvGraphicFramePr>
        <p:xfrm>
          <a:off x="1397160" y="3289320"/>
          <a:ext cx="6349680" cy="31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7160" y="3289320"/>
                    <a:ext cx="6349680" cy="3174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MP-SharingTab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ed to know when communication happens, to transition from parallel to serial mod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everage existing cache coherence protoco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hen a line moves between processors, communication is (potentially) happening!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Sharing Table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racks information about ownershi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ate of Sharing Table must evolve deterministical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nly allow updates during serial suffix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Footer Placeholder 4"/>
          <p:cNvSpPr/>
          <p:nvPr/>
        </p:nvSpPr>
        <p:spPr>
          <a:xfrm>
            <a:off x="60948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BBF7-10BA-4D60-8BA9-999CEC4C58D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MP-SharingTable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8" name="Footer Placeholder 4"/>
          <p:cNvSpPr/>
          <p:nvPr/>
        </p:nvSpPr>
        <p:spPr>
          <a:xfrm>
            <a:off x="60948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1702-E26E-4730-A24D-C236C4FDDCD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60" name="ShockwaveFlash1"/>
          <p:cNvGraphicFramePr/>
          <p:nvPr/>
        </p:nvGraphicFramePr>
        <p:xfrm>
          <a:off x="698400" y="1511280"/>
          <a:ext cx="774720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511280"/>
                    <a:ext cx="7747200" cy="4826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DMP-TM: 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Recovering Parallelism with Specula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MP-SharingTable conservatively assumes that all changes in ownership are communic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ut most changes in ownership are 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communic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TM support to speculate that a quantum is not involved in communic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f communication happens, rollback + re-execut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ch quantum is an implicit transa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Commit quanta in-order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(need DT to commit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Footer Placeholder 4"/>
          <p:cNvSpPr/>
          <p:nvPr/>
        </p:nvSpPr>
        <p:spPr>
          <a:xfrm>
            <a:off x="60948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6068-AD4D-461C-9003-E56779B53D9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7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MP-TM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60948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D3BA-7D40-4AA3-B22D-3822473F688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69" name="ShockwaveFlash1"/>
          <p:cNvGraphicFramePr/>
          <p:nvPr/>
        </p:nvGraphicFramePr>
        <p:xfrm>
          <a:off x="698400" y="1511280"/>
          <a:ext cx="774720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511280"/>
                    <a:ext cx="7747200" cy="4826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DMP-TM-Forward: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Speculative Value Forwarding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612360" y="1600200"/>
            <a:ext cx="830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MP-TM eliminates WAW and WAR dependenc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ut cannot speculate past true (RAW) dependen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dea: speculatively forward values to “future” quan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herence protocol + ordered transactions make it easy to decide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when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where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to forwar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ollback if a quantum’s speculatively read data is updated before the quantum commi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Footer Placeholder 4"/>
          <p:cNvSpPr/>
          <p:nvPr/>
        </p:nvSpPr>
        <p:spPr>
          <a:xfrm>
            <a:off x="60948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FD9F-DE35-4AEC-8BE1-BD082277F47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MP-TM-Forward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6" name="Footer Placeholder 3"/>
          <p:cNvSpPr/>
          <p:nvPr/>
        </p:nvSpPr>
        <p:spPr>
          <a:xfrm>
            <a:off x="60948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FBE3-AA7A-4FB5-AD76-059BB54F010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78" name="ShockwaveFlash1"/>
          <p:cNvGraphicFramePr/>
          <p:nvPr/>
        </p:nvGraphicFramePr>
        <p:xfrm>
          <a:off x="698400" y="1509840"/>
          <a:ext cx="7747200" cy="48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509840"/>
                    <a:ext cx="7747200" cy="4825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etter Quantum Buil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y deterministic policy will wor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want quanta that are free of communic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o communication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Times New Roman"/>
              </a:rPr>
              <a:t>→ no serialization, no rollback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60948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C36D-AC38-498B-A8A1-8A50436E436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84" name="ShockwaveFlash1"/>
          <p:cNvGraphicFramePr/>
          <p:nvPr/>
        </p:nvGraphicFramePr>
        <p:xfrm>
          <a:off x="762120" y="3276720"/>
          <a:ext cx="7619760" cy="31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76720"/>
                    <a:ext cx="7619760" cy="3174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perimental Methodolog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IN-based simulato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odels serialization, quantum building, address conflicts and transaction rollback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sumes constant IPC with free commi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LASH2 and PARSEC benchmark sui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8" name="Footer Placeholder 4"/>
          <p:cNvSpPr/>
          <p:nvPr/>
        </p:nvSpPr>
        <p:spPr>
          <a:xfrm>
            <a:off x="60948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A1B5-9AFF-415F-8C20-F844D3F655F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sul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791" name="Content Placeholder 5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4495680"/>
          </a:xfrm>
          <a:prstGeom prst="rect">
            <a:avLst/>
          </a:prstGeom>
          <a:ln w="0">
            <a:noFill/>
          </a:ln>
        </p:spPr>
      </p:pic>
      <p:sp>
        <p:nvSpPr>
          <p:cNvPr id="792" name="Footer Placeholder 4"/>
          <p:cNvSpPr/>
          <p:nvPr/>
        </p:nvSpPr>
        <p:spPr>
          <a:xfrm>
            <a:off x="60948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TextBox 6"/>
          <p:cNvSpPr/>
          <p:nvPr/>
        </p:nvSpPr>
        <p:spPr>
          <a:xfrm>
            <a:off x="2450160" y="579132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plash2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4" name="TextBox 7"/>
          <p:cNvSpPr/>
          <p:nvPr/>
        </p:nvSpPr>
        <p:spPr>
          <a:xfrm>
            <a:off x="6809400" y="57913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arse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5" name="TextBox 8"/>
          <p:cNvSpPr/>
          <p:nvPr/>
        </p:nvSpPr>
        <p:spPr>
          <a:xfrm>
            <a:off x="4160880" y="579132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benchmark suit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96" name="Group 13"/>
          <p:cNvGrpSpPr/>
          <p:nvPr/>
        </p:nvGrpSpPr>
        <p:grpSpPr>
          <a:xfrm>
            <a:off x="2431080" y="1676520"/>
            <a:ext cx="5859720" cy="368280"/>
            <a:chOff x="2431080" y="1676520"/>
            <a:chExt cx="5859720" cy="368280"/>
          </a:xfrm>
        </p:grpSpPr>
        <p:sp>
          <p:nvSpPr>
            <p:cNvPr id="797" name="TextBox 9"/>
            <p:cNvSpPr/>
            <p:nvPr/>
          </p:nvSpPr>
          <p:spPr>
            <a:xfrm>
              <a:off x="2431080" y="167652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4.3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98" name="TextBox 10"/>
            <p:cNvSpPr/>
            <p:nvPr/>
          </p:nvSpPr>
          <p:spPr>
            <a:xfrm>
              <a:off x="3497760" y="167652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6.4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99" name="TextBox 11"/>
            <p:cNvSpPr/>
            <p:nvPr/>
          </p:nvSpPr>
          <p:spPr>
            <a:xfrm>
              <a:off x="6720480" y="167652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4.6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00" name="TextBox 12"/>
            <p:cNvSpPr/>
            <p:nvPr/>
          </p:nvSpPr>
          <p:spPr>
            <a:xfrm>
              <a:off x="7787160" y="167652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6.7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801" name="Slide Number Placeholder 1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3AA4-AE2F-4B04-8526-2A7AA53DB50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TextBox 15"/>
          <p:cNvSpPr/>
          <p:nvPr/>
        </p:nvSpPr>
        <p:spPr>
          <a:xfrm>
            <a:off x="1874160" y="3589200"/>
            <a:ext cx="697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1,000-instruction quant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ynchronization+burst quantum build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 multithreaded voting machi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Footer Placeholder 10"/>
          <p:cNvSpPr/>
          <p:nvPr/>
        </p:nvSpPr>
        <p:spPr>
          <a:xfrm>
            <a:off x="60948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TextBox 12"/>
          <p:cNvSpPr/>
          <p:nvPr/>
        </p:nvSpPr>
        <p:spPr>
          <a:xfrm>
            <a:off x="4762440" y="2819520"/>
            <a:ext cx="3619440" cy="1769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while (more_votes) {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load t &lt;- vote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t++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store t -&gt; vote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1778400" y="236232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read 0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TextBox 17"/>
          <p:cNvSpPr/>
          <p:nvPr/>
        </p:nvSpPr>
        <p:spPr>
          <a:xfrm>
            <a:off x="5778720" y="236232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TextBox 13"/>
          <p:cNvSpPr/>
          <p:nvPr/>
        </p:nvSpPr>
        <p:spPr>
          <a:xfrm>
            <a:off x="762120" y="2819520"/>
            <a:ext cx="3619440" cy="1769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while (more_votes) {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load t &lt;- vote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t++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store t -&gt; vote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14" name="Group 192"/>
          <p:cNvGrpSpPr/>
          <p:nvPr/>
        </p:nvGrpSpPr>
        <p:grpSpPr>
          <a:xfrm>
            <a:off x="1160640" y="4734000"/>
            <a:ext cx="2009520" cy="1679400"/>
            <a:chOff x="1160640" y="4734000"/>
            <a:chExt cx="2009520" cy="1679400"/>
          </a:xfrm>
        </p:grpSpPr>
        <p:sp>
          <p:nvSpPr>
            <p:cNvPr id="415" name="Rectangle 164"/>
            <p:cNvSpPr/>
            <p:nvPr/>
          </p:nvSpPr>
          <p:spPr>
            <a:xfrm>
              <a:off x="1479240" y="4734000"/>
              <a:ext cx="1371960" cy="2286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6" name="Rectangle 168"/>
            <p:cNvSpPr/>
            <p:nvPr/>
          </p:nvSpPr>
          <p:spPr>
            <a:xfrm>
              <a:off x="1479240" y="5038920"/>
              <a:ext cx="1371960" cy="2286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7" name="Rectangle 169"/>
            <p:cNvSpPr/>
            <p:nvPr/>
          </p:nvSpPr>
          <p:spPr>
            <a:xfrm>
              <a:off x="1479240" y="5343840"/>
              <a:ext cx="1371960" cy="2286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8" name="Rectangle 170"/>
            <p:cNvSpPr/>
            <p:nvPr/>
          </p:nvSpPr>
          <p:spPr>
            <a:xfrm>
              <a:off x="1479240" y="5648760"/>
              <a:ext cx="1371960" cy="2286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9" name="TextBox 173"/>
            <p:cNvSpPr/>
            <p:nvPr/>
          </p:nvSpPr>
          <p:spPr>
            <a:xfrm>
              <a:off x="1160640" y="595368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votes == 2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420" name="Group 193"/>
          <p:cNvGrpSpPr/>
          <p:nvPr/>
        </p:nvGrpSpPr>
        <p:grpSpPr>
          <a:xfrm>
            <a:off x="3598920" y="4734000"/>
            <a:ext cx="2009520" cy="1679400"/>
            <a:chOff x="3598920" y="4734000"/>
            <a:chExt cx="2009520" cy="1679400"/>
          </a:xfrm>
        </p:grpSpPr>
        <p:sp>
          <p:nvSpPr>
            <p:cNvPr id="421" name="Rectangle 181"/>
            <p:cNvSpPr/>
            <p:nvPr/>
          </p:nvSpPr>
          <p:spPr>
            <a:xfrm>
              <a:off x="3917520" y="4734000"/>
              <a:ext cx="1371960" cy="2286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2" name="Rectangle 182"/>
            <p:cNvSpPr/>
            <p:nvPr/>
          </p:nvSpPr>
          <p:spPr>
            <a:xfrm>
              <a:off x="3917520" y="5038920"/>
              <a:ext cx="1371960" cy="2286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3" name="Rectangle 183"/>
            <p:cNvSpPr/>
            <p:nvPr/>
          </p:nvSpPr>
          <p:spPr>
            <a:xfrm>
              <a:off x="3917520" y="5343840"/>
              <a:ext cx="1371960" cy="2286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4" name="Rectangle 184"/>
            <p:cNvSpPr/>
            <p:nvPr/>
          </p:nvSpPr>
          <p:spPr>
            <a:xfrm>
              <a:off x="3917520" y="5648760"/>
              <a:ext cx="1371960" cy="2286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5" name="TextBox 185"/>
            <p:cNvSpPr/>
            <p:nvPr/>
          </p:nvSpPr>
          <p:spPr>
            <a:xfrm>
              <a:off x="3598920" y="595368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votes == 2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426" name="Group 194"/>
          <p:cNvGrpSpPr/>
          <p:nvPr/>
        </p:nvGrpSpPr>
        <p:grpSpPr>
          <a:xfrm>
            <a:off x="5960880" y="4734000"/>
            <a:ext cx="2314440" cy="1740240"/>
            <a:chOff x="5960880" y="4734000"/>
            <a:chExt cx="2314440" cy="1740240"/>
          </a:xfrm>
        </p:grpSpPr>
        <p:sp>
          <p:nvSpPr>
            <p:cNvPr id="427" name="Rectangle 187"/>
            <p:cNvSpPr/>
            <p:nvPr/>
          </p:nvSpPr>
          <p:spPr>
            <a:xfrm>
              <a:off x="6432120" y="4734000"/>
              <a:ext cx="1371960" cy="2286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8" name="Rectangle 188"/>
            <p:cNvSpPr/>
            <p:nvPr/>
          </p:nvSpPr>
          <p:spPr>
            <a:xfrm>
              <a:off x="6432120" y="5038920"/>
              <a:ext cx="1371960" cy="2286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9" name="Rectangle 189"/>
            <p:cNvSpPr/>
            <p:nvPr/>
          </p:nvSpPr>
          <p:spPr>
            <a:xfrm>
              <a:off x="6432120" y="5343840"/>
              <a:ext cx="1371960" cy="2286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0" name="Rectangle 190"/>
            <p:cNvSpPr/>
            <p:nvPr/>
          </p:nvSpPr>
          <p:spPr>
            <a:xfrm>
              <a:off x="6432120" y="5648760"/>
              <a:ext cx="1371960" cy="2286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1" name="TextBox 191"/>
            <p:cNvSpPr/>
            <p:nvPr/>
          </p:nvSpPr>
          <p:spPr>
            <a:xfrm>
              <a:off x="5960880" y="595368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Lucida Console"/>
                </a:rPr>
                <a:t>votes == 1</a:t>
              </a:r>
              <a:endParaRPr b="0" lang="en-US" sz="2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432" name="Slide Number Placeholder 2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0E0B-4294-4442-B5CC-2C06DDC98BE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lso in the paper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ftware-only Sharing Table implement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upport for debugg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dding instrumentation without affecting communic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king execution deterministic across machin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aling with nondeterminism from I/O and the 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5" name="Footer Placeholder 4"/>
          <p:cNvSpPr/>
          <p:nvPr/>
        </p:nvSpPr>
        <p:spPr>
          <a:xfrm>
            <a:off x="60948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6F89-B00E-4257-B7B4-9FD36A8269B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612720" y="1600200"/>
            <a:ext cx="853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terminism makes parallel programming easi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xecution is repeatabl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mplifies debugging, testing, replicating and deploy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MP is a new multiprocessor architecture that provides determinism for arbitrary shared memory progra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everages existing architectural techniqu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erformance very close to nondeterministic execu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Determinism is a worthwhile and achievable go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Footer Placeholder 4"/>
          <p:cNvSpPr/>
          <p:nvPr/>
        </p:nvSpPr>
        <p:spPr>
          <a:xfrm>
            <a:off x="60948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1DC3-A6E6-44D3-8418-AB8D91C98B9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Question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Footer Placeholder 4"/>
          <p:cNvSpPr/>
          <p:nvPr/>
        </p:nvSpPr>
        <p:spPr>
          <a:xfrm>
            <a:off x="60948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43CB-F700-4F1D-9C6B-241C67668BE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Quantum Roun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6" name="Footer Placeholder 3"/>
          <p:cNvSpPr/>
          <p:nvPr/>
        </p:nvSpPr>
        <p:spPr>
          <a:xfrm>
            <a:off x="60948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6B5E-90A2-467B-B6F6-9D7F3066881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2209680" y="1676520"/>
            <a:ext cx="1295640" cy="7617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Rectangle 8"/>
          <p:cNvSpPr/>
          <p:nvPr/>
        </p:nvSpPr>
        <p:spPr>
          <a:xfrm>
            <a:off x="2209680" y="2514600"/>
            <a:ext cx="1295640" cy="7621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0" name="Rectangle 9"/>
          <p:cNvSpPr/>
          <p:nvPr/>
        </p:nvSpPr>
        <p:spPr>
          <a:xfrm>
            <a:off x="3809880" y="1676520"/>
            <a:ext cx="1295640" cy="7617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1" name="Rectangle 10"/>
          <p:cNvSpPr/>
          <p:nvPr/>
        </p:nvSpPr>
        <p:spPr>
          <a:xfrm>
            <a:off x="3809880" y="3276720"/>
            <a:ext cx="1295640" cy="7617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2" name="Rectangle 11"/>
          <p:cNvSpPr/>
          <p:nvPr/>
        </p:nvSpPr>
        <p:spPr>
          <a:xfrm>
            <a:off x="5410080" y="1676520"/>
            <a:ext cx="1295640" cy="7617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3" name="Rectangle 12"/>
          <p:cNvSpPr/>
          <p:nvPr/>
        </p:nvSpPr>
        <p:spPr>
          <a:xfrm>
            <a:off x="5410080" y="4038480"/>
            <a:ext cx="1295640" cy="7621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4" name="Rectangle 14"/>
          <p:cNvSpPr/>
          <p:nvPr/>
        </p:nvSpPr>
        <p:spPr>
          <a:xfrm>
            <a:off x="2209680" y="4876920"/>
            <a:ext cx="1295640" cy="7617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5" name="Rectangle 16"/>
          <p:cNvSpPr/>
          <p:nvPr/>
        </p:nvSpPr>
        <p:spPr>
          <a:xfrm>
            <a:off x="3809880" y="4876920"/>
            <a:ext cx="1295640" cy="7617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6" name="Rectangle 17"/>
          <p:cNvSpPr/>
          <p:nvPr/>
        </p:nvSpPr>
        <p:spPr>
          <a:xfrm>
            <a:off x="5410080" y="4876920"/>
            <a:ext cx="1295640" cy="7617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827" name="Group 20"/>
          <p:cNvGrpSpPr/>
          <p:nvPr/>
        </p:nvGrpSpPr>
        <p:grpSpPr>
          <a:xfrm>
            <a:off x="-190440" y="1676520"/>
            <a:ext cx="2247840" cy="1600200"/>
            <a:chOff x="-190440" y="1676520"/>
            <a:chExt cx="2247840" cy="1600200"/>
          </a:xfrm>
        </p:grpSpPr>
        <p:sp>
          <p:nvSpPr>
            <p:cNvPr id="828" name="Left Brace 18"/>
            <p:cNvSpPr/>
            <p:nvPr/>
          </p:nvSpPr>
          <p:spPr>
            <a:xfrm>
              <a:off x="1524240" y="1676520"/>
              <a:ext cx="533160" cy="160020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51840 h 1600200"/>
                <a:gd name="textAreaBottom" fmla="*/ 15483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23"/>
                    <a:pt x="10800" y="2246"/>
                  </a:cubicBezTo>
                  <a:lnTo>
                    <a:pt x="10800" y="8554"/>
                  </a:lnTo>
                  <a:cubicBezTo>
                    <a:pt x="10800" y="9677"/>
                    <a:pt x="5400" y="10800"/>
                    <a:pt x="0" y="10800"/>
                  </a:cubicBezTo>
                  <a:cubicBezTo>
                    <a:pt x="5400" y="10800"/>
                    <a:pt x="10800" y="11923"/>
                    <a:pt x="10800" y="13046"/>
                  </a:cubicBezTo>
                  <a:lnTo>
                    <a:pt x="10800" y="19354"/>
                  </a:lnTo>
                  <a:cubicBezTo>
                    <a:pt x="10800" y="20477"/>
                    <a:pt x="16200" y="21600"/>
                    <a:pt x="21600" y="21600"/>
                  </a:cubicBezTo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29" name="TextBox 19"/>
            <p:cNvSpPr/>
            <p:nvPr/>
          </p:nvSpPr>
          <p:spPr>
            <a:xfrm>
              <a:off x="-190440" y="2133720"/>
              <a:ext cx="194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w Cen MT"/>
                </a:rPr>
                <a:t>quantum</a:t>
              </a:r>
              <a:endParaRPr b="0" lang="en-US" sz="32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cxnSp>
        <p:nvCxnSpPr>
          <p:cNvPr id="830" name="Straight Arrow Connector 22"/>
          <p:cNvCxnSpPr/>
          <p:nvPr/>
        </p:nvCxnSpPr>
        <p:spPr>
          <a:xfrm flipH="1" flipV="1">
            <a:off x="3524040" y="4541400"/>
            <a:ext cx="1886400" cy="720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1" name="TextBox 26"/>
          <p:cNvSpPr/>
          <p:nvPr/>
        </p:nvSpPr>
        <p:spPr>
          <a:xfrm>
            <a:off x="3949200" y="40384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race!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832" name="Group 28"/>
          <p:cNvGrpSpPr/>
          <p:nvPr/>
        </p:nvGrpSpPr>
        <p:grpSpPr>
          <a:xfrm>
            <a:off x="6857640" y="1512720"/>
            <a:ext cx="2122920" cy="1068840"/>
            <a:chOff x="6857640" y="1512720"/>
            <a:chExt cx="2122920" cy="1068840"/>
          </a:xfrm>
        </p:grpSpPr>
        <p:sp>
          <p:nvSpPr>
            <p:cNvPr id="833" name="Left Brace 29"/>
            <p:cNvSpPr/>
            <p:nvPr/>
          </p:nvSpPr>
          <p:spPr>
            <a:xfrm flipH="1">
              <a:off x="6857280" y="1675440"/>
              <a:ext cx="533160" cy="762840"/>
            </a:xfrm>
            <a:custGeom>
              <a:avLst/>
              <a:gdLst>
                <a:gd name="textAreaLeft" fmla="*/ 340200 w 533160"/>
                <a:gd name="textAreaRight" fmla="*/ 533160 w 533160"/>
                <a:gd name="textAreaTop" fmla="*/ 51840 h 762840"/>
                <a:gd name="textAreaBottom" fmla="*/ 711000 h 76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358"/>
                    <a:pt x="10800" y="4716"/>
                  </a:cubicBezTo>
                  <a:lnTo>
                    <a:pt x="10800" y="6084"/>
                  </a:lnTo>
                  <a:cubicBezTo>
                    <a:pt x="10800" y="8442"/>
                    <a:pt x="5400" y="10800"/>
                    <a:pt x="0" y="10800"/>
                  </a:cubicBezTo>
                  <a:cubicBezTo>
                    <a:pt x="5400" y="10800"/>
                    <a:pt x="10800" y="13158"/>
                    <a:pt x="10800" y="15516"/>
                  </a:cubicBezTo>
                  <a:lnTo>
                    <a:pt x="10800" y="16884"/>
                  </a:lnTo>
                  <a:cubicBezTo>
                    <a:pt x="10800" y="19242"/>
                    <a:pt x="16200" y="21600"/>
                    <a:pt x="21600" y="21600"/>
                  </a:cubicBezTo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4" name="TextBox 30"/>
            <p:cNvSpPr/>
            <p:nvPr/>
          </p:nvSpPr>
          <p:spPr>
            <a:xfrm flipH="1">
              <a:off x="7379280" y="1512720"/>
              <a:ext cx="160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w Cen MT"/>
                </a:rPr>
                <a:t>parallel</a:t>
              </a:r>
              <a:endParaRPr b="0" lang="en-US" sz="32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w Cen MT"/>
                </a:rPr>
                <a:t>prefix</a:t>
              </a:r>
              <a:endParaRPr b="0" lang="en-US" sz="32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835" name="Group 31"/>
          <p:cNvGrpSpPr/>
          <p:nvPr/>
        </p:nvGrpSpPr>
        <p:grpSpPr>
          <a:xfrm>
            <a:off x="6857640" y="2602080"/>
            <a:ext cx="1756080" cy="2198520"/>
            <a:chOff x="6857640" y="2602080"/>
            <a:chExt cx="1756080" cy="2198520"/>
          </a:xfrm>
        </p:grpSpPr>
        <p:sp>
          <p:nvSpPr>
            <p:cNvPr id="836" name="Left Brace 32"/>
            <p:cNvSpPr/>
            <p:nvPr/>
          </p:nvSpPr>
          <p:spPr>
            <a:xfrm flipH="1">
              <a:off x="6857640" y="2602080"/>
              <a:ext cx="533520" cy="219852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51840 h 2198520"/>
                <a:gd name="textAreaBottom" fmla="*/ 2146680 h 21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17"/>
                    <a:pt x="10800" y="1634"/>
                  </a:cubicBezTo>
                  <a:lnTo>
                    <a:pt x="10800" y="9166"/>
                  </a:lnTo>
                  <a:cubicBezTo>
                    <a:pt x="10800" y="9983"/>
                    <a:pt x="5400" y="10800"/>
                    <a:pt x="0" y="10800"/>
                  </a:cubicBezTo>
                  <a:cubicBezTo>
                    <a:pt x="5400" y="10800"/>
                    <a:pt x="10800" y="11617"/>
                    <a:pt x="10800" y="12434"/>
                  </a:cubicBezTo>
                  <a:lnTo>
                    <a:pt x="10800" y="19966"/>
                  </a:lnTo>
                  <a:cubicBezTo>
                    <a:pt x="10800" y="20783"/>
                    <a:pt x="16200" y="21600"/>
                    <a:pt x="21600" y="21600"/>
                  </a:cubicBezTo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7" name="TextBox 33"/>
            <p:cNvSpPr/>
            <p:nvPr/>
          </p:nvSpPr>
          <p:spPr>
            <a:xfrm flipH="1">
              <a:off x="7386120" y="3161160"/>
              <a:ext cx="1227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w Cen MT"/>
                </a:rPr>
                <a:t>serial</a:t>
              </a:r>
              <a:endParaRPr b="0" lang="en-US" sz="32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w Cen MT"/>
                </a:rPr>
                <a:t>suffix</a:t>
              </a:r>
              <a:endParaRPr b="0" lang="en-US" sz="32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838" name="Group 36"/>
          <p:cNvGrpSpPr/>
          <p:nvPr/>
        </p:nvGrpSpPr>
        <p:grpSpPr>
          <a:xfrm>
            <a:off x="2209680" y="5715000"/>
            <a:ext cx="1295640" cy="770040"/>
            <a:chOff x="2209680" y="5715000"/>
            <a:chExt cx="1295640" cy="770040"/>
          </a:xfrm>
        </p:grpSpPr>
        <p:sp>
          <p:nvSpPr>
            <p:cNvPr id="839" name="Rectangle 15"/>
            <p:cNvSpPr/>
            <p:nvPr/>
          </p:nvSpPr>
          <p:spPr>
            <a:xfrm>
              <a:off x="2209680" y="5829120"/>
              <a:ext cx="1295640" cy="64620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pic>
          <p:nvPicPr>
            <p:cNvPr id="840" name="Rectangle 35" descr=""/>
            <p:cNvPicPr/>
            <p:nvPr/>
          </p:nvPicPr>
          <p:blipFill>
            <a:blip r:embed="rId1"/>
            <a:stretch/>
          </p:blipFill>
          <p:spPr>
            <a:xfrm>
              <a:off x="2377080" y="5715000"/>
              <a:ext cx="963360" cy="77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55319E-006 L 5.55112E-017 -0.11101 E">
                                      <p:cBhvr>
                                        <p:cTn id="471" dur="2000" fill="hold"/>
                                        <p:tgtEl>
                                          <p:spTgt spid="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M-Forward Rollbac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08DB-FB7C-44D5-BB19-64299BDECA6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3" name="Footer Placeholder 4"/>
          <p:cNvSpPr/>
          <p:nvPr/>
        </p:nvSpPr>
        <p:spPr>
          <a:xfrm>
            <a:off x="60948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4" name="Rounded Rectangle 5"/>
          <p:cNvSpPr/>
          <p:nvPr/>
        </p:nvSpPr>
        <p:spPr>
          <a:xfrm>
            <a:off x="419040" y="2362320"/>
            <a:ext cx="2133720" cy="6094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onsole"/>
              </a:rPr>
              <a:t>store 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Rounded Rectangle 11"/>
          <p:cNvSpPr/>
          <p:nvPr/>
        </p:nvSpPr>
        <p:spPr>
          <a:xfrm>
            <a:off x="419040" y="3124080"/>
            <a:ext cx="2133720" cy="6098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onsole"/>
              </a:rPr>
              <a:t>ad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Rounded Rectangle 12"/>
          <p:cNvSpPr/>
          <p:nvPr/>
        </p:nvSpPr>
        <p:spPr>
          <a:xfrm>
            <a:off x="419040" y="3886200"/>
            <a:ext cx="2133720" cy="6094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onsole"/>
              </a:rPr>
              <a:t>store 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7" name="Rounded Rectangle 13"/>
          <p:cNvSpPr/>
          <p:nvPr/>
        </p:nvSpPr>
        <p:spPr>
          <a:xfrm>
            <a:off x="3543480" y="2590920"/>
            <a:ext cx="2133360" cy="6094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onsole"/>
              </a:rPr>
              <a:t>ad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8" name="Rounded Rectangle 14"/>
          <p:cNvSpPr/>
          <p:nvPr/>
        </p:nvSpPr>
        <p:spPr>
          <a:xfrm>
            <a:off x="3543480" y="3352680"/>
            <a:ext cx="2133360" cy="6098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onsole"/>
              </a:rPr>
              <a:t>load 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Rounded Rectangle 15"/>
          <p:cNvSpPr/>
          <p:nvPr/>
        </p:nvSpPr>
        <p:spPr>
          <a:xfrm>
            <a:off x="3543480" y="4114800"/>
            <a:ext cx="2133360" cy="6094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onsole"/>
              </a:rPr>
              <a:t>sub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50" name="Straight Arrow Connector 17"/>
          <p:cNvCxnSpPr>
            <a:stCxn id="844" idx="3"/>
            <a:endCxn id="848" idx="1"/>
          </p:cNvCxnSpPr>
          <p:nvPr/>
        </p:nvCxnSpPr>
        <p:spPr>
          <a:xfrm>
            <a:off x="2552760" y="2666880"/>
            <a:ext cx="991440" cy="991440"/>
          </a:xfrm>
          <a:prstGeom prst="straightConnector1">
            <a:avLst/>
          </a:prstGeom>
          <a:ln w="10152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851" name="Rounded Rectangle 19"/>
          <p:cNvSpPr/>
          <p:nvPr/>
        </p:nvSpPr>
        <p:spPr>
          <a:xfrm>
            <a:off x="6591240" y="2514600"/>
            <a:ext cx="2133720" cy="6094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onsole"/>
              </a:rPr>
              <a:t>ad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2" name="Rounded Rectangle 20"/>
          <p:cNvSpPr/>
          <p:nvPr/>
        </p:nvSpPr>
        <p:spPr>
          <a:xfrm>
            <a:off x="6591240" y="3276720"/>
            <a:ext cx="2133720" cy="6094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onsole"/>
              </a:rPr>
              <a:t>store 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Rounded Rectangle 21"/>
          <p:cNvSpPr/>
          <p:nvPr/>
        </p:nvSpPr>
        <p:spPr>
          <a:xfrm>
            <a:off x="6591240" y="4038480"/>
            <a:ext cx="2133720" cy="6098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onsole"/>
              </a:rPr>
              <a:t>sub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4" name="Right Arrow 18"/>
          <p:cNvSpPr/>
          <p:nvPr/>
        </p:nvSpPr>
        <p:spPr>
          <a:xfrm>
            <a:off x="2857680" y="1600200"/>
            <a:ext cx="3429000" cy="633240"/>
          </a:xfrm>
          <a:prstGeom prst="rightArrow">
            <a:avLst>
              <a:gd name="adj1" fmla="val 74806"/>
              <a:gd name="adj2" fmla="val 50064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Deterministic Ord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55" name="Straight Arrow Connector 22"/>
          <p:cNvCxnSpPr/>
          <p:nvPr/>
        </p:nvCxnSpPr>
        <p:spPr>
          <a:xfrm>
            <a:off x="2514600" y="4190760"/>
            <a:ext cx="1046880" cy="27720"/>
          </a:xfrm>
          <a:prstGeom prst="straightConnector1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56" name="&quot;No&quot; Symbol 25"/>
          <p:cNvSpPr/>
          <p:nvPr/>
        </p:nvSpPr>
        <p:spPr>
          <a:xfrm>
            <a:off x="3276720" y="1981080"/>
            <a:ext cx="2590560" cy="33530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TextBox 23"/>
          <p:cNvSpPr/>
          <p:nvPr/>
        </p:nvSpPr>
        <p:spPr>
          <a:xfrm>
            <a:off x="847800" y="5511960"/>
            <a:ext cx="74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Need value from youngest older stor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M-Forward Recursive Rollbac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50C5-D804-4737-9751-C0BA2D93F6B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0" name="Footer Placeholder 4"/>
          <p:cNvSpPr/>
          <p:nvPr/>
        </p:nvSpPr>
        <p:spPr>
          <a:xfrm>
            <a:off x="60948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Rounded Rectangle 5"/>
          <p:cNvSpPr/>
          <p:nvPr/>
        </p:nvSpPr>
        <p:spPr>
          <a:xfrm>
            <a:off x="419040" y="2362320"/>
            <a:ext cx="2133720" cy="6094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onsole"/>
              </a:rPr>
              <a:t>store 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Rounded Rectangle 11"/>
          <p:cNvSpPr/>
          <p:nvPr/>
        </p:nvSpPr>
        <p:spPr>
          <a:xfrm>
            <a:off x="419040" y="3124080"/>
            <a:ext cx="2133720" cy="6098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onsole"/>
              </a:rPr>
              <a:t>ad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3" name="Rounded Rectangle 12"/>
          <p:cNvSpPr/>
          <p:nvPr/>
        </p:nvSpPr>
        <p:spPr>
          <a:xfrm>
            <a:off x="419040" y="3886200"/>
            <a:ext cx="2133720" cy="6094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onsole"/>
              </a:rPr>
              <a:t>store 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Rounded Rectangle 13"/>
          <p:cNvSpPr/>
          <p:nvPr/>
        </p:nvSpPr>
        <p:spPr>
          <a:xfrm>
            <a:off x="3543480" y="2590920"/>
            <a:ext cx="2133360" cy="6094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onsole"/>
              </a:rPr>
              <a:t>ad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Rounded Rectangle 14"/>
          <p:cNvSpPr/>
          <p:nvPr/>
        </p:nvSpPr>
        <p:spPr>
          <a:xfrm>
            <a:off x="3543480" y="3352680"/>
            <a:ext cx="2133360" cy="6098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onsole"/>
              </a:rPr>
              <a:t>load 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6" name="Rounded Rectangle 15"/>
          <p:cNvSpPr/>
          <p:nvPr/>
        </p:nvSpPr>
        <p:spPr>
          <a:xfrm>
            <a:off x="3543480" y="4114800"/>
            <a:ext cx="2133360" cy="6094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onsole"/>
              </a:rPr>
              <a:t>store B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67" name="Straight Arrow Connector 17"/>
          <p:cNvCxnSpPr>
            <a:stCxn id="861" idx="3"/>
            <a:endCxn id="865" idx="1"/>
          </p:cNvCxnSpPr>
          <p:nvPr/>
        </p:nvCxnSpPr>
        <p:spPr>
          <a:xfrm>
            <a:off x="2552760" y="2666880"/>
            <a:ext cx="991440" cy="991440"/>
          </a:xfrm>
          <a:prstGeom prst="straightConnector1">
            <a:avLst/>
          </a:prstGeom>
          <a:ln w="10152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868" name="Rounded Rectangle 19"/>
          <p:cNvSpPr/>
          <p:nvPr/>
        </p:nvSpPr>
        <p:spPr>
          <a:xfrm>
            <a:off x="6591240" y="2819520"/>
            <a:ext cx="2133720" cy="6094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onsole"/>
              </a:rPr>
              <a:t>ad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9" name="Rounded Rectangle 20"/>
          <p:cNvSpPr/>
          <p:nvPr/>
        </p:nvSpPr>
        <p:spPr>
          <a:xfrm>
            <a:off x="6591240" y="3581280"/>
            <a:ext cx="2133720" cy="6098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onsole"/>
              </a:rPr>
              <a:t>sub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0" name="Rounded Rectangle 21"/>
          <p:cNvSpPr/>
          <p:nvPr/>
        </p:nvSpPr>
        <p:spPr>
          <a:xfrm>
            <a:off x="6591240" y="4343400"/>
            <a:ext cx="2133720" cy="6094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onsole"/>
              </a:rPr>
              <a:t>load B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1" name="Right Arrow 18"/>
          <p:cNvSpPr/>
          <p:nvPr/>
        </p:nvSpPr>
        <p:spPr>
          <a:xfrm>
            <a:off x="2857680" y="1600200"/>
            <a:ext cx="3429000" cy="633240"/>
          </a:xfrm>
          <a:prstGeom prst="rightArrow">
            <a:avLst>
              <a:gd name="adj1" fmla="val 74806"/>
              <a:gd name="adj2" fmla="val 50064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Deterministic Ord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72" name="Straight Arrow Connector 22"/>
          <p:cNvCxnSpPr/>
          <p:nvPr/>
        </p:nvCxnSpPr>
        <p:spPr>
          <a:xfrm>
            <a:off x="2514600" y="4190760"/>
            <a:ext cx="1046880" cy="27720"/>
          </a:xfrm>
          <a:prstGeom prst="straightConnector1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73" name="Straight Arrow Connector 23"/>
          <p:cNvCxnSpPr/>
          <p:nvPr/>
        </p:nvCxnSpPr>
        <p:spPr>
          <a:xfrm>
            <a:off x="5638680" y="4419720"/>
            <a:ext cx="945360" cy="249840"/>
          </a:xfrm>
          <a:prstGeom prst="straightConnector1">
            <a:avLst/>
          </a:prstGeom>
          <a:ln w="10152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874" name="&quot;No&quot; Symbol 27"/>
          <p:cNvSpPr/>
          <p:nvPr/>
        </p:nvSpPr>
        <p:spPr>
          <a:xfrm>
            <a:off x="6324480" y="2286000"/>
            <a:ext cx="2819520" cy="3124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5" name="&quot;No&quot; Symbol 25"/>
          <p:cNvSpPr/>
          <p:nvPr/>
        </p:nvSpPr>
        <p:spPr>
          <a:xfrm>
            <a:off x="3200400" y="1981080"/>
            <a:ext cx="2819520" cy="3124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lash test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7" name="Rounded Rectangle 5"/>
          <p:cNvSpPr/>
          <p:nvPr/>
        </p:nvSpPr>
        <p:spPr>
          <a:xfrm>
            <a:off x="1371600" y="4648320"/>
            <a:ext cx="6400800" cy="12952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Flash 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 powerpoint interaction works!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This presentation should work fine :-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8" name="Left Brace 3"/>
          <p:cNvSpPr/>
          <p:nvPr/>
        </p:nvSpPr>
        <p:spPr>
          <a:xfrm>
            <a:off x="3200400" y="1600200"/>
            <a:ext cx="304920" cy="2706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41760 h 2706840"/>
              <a:gd name="textAreaBottom" fmla="*/ 2665080 h 270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3"/>
                  <a:pt x="10800" y="1066"/>
                </a:cubicBezTo>
                <a:lnTo>
                  <a:pt x="10800" y="9734"/>
                </a:lnTo>
                <a:cubicBezTo>
                  <a:pt x="10800" y="10267"/>
                  <a:pt x="5400" y="10800"/>
                  <a:pt x="0" y="10800"/>
                </a:cubicBezTo>
                <a:cubicBezTo>
                  <a:pt x="5400" y="10800"/>
                  <a:pt x="10800" y="11333"/>
                  <a:pt x="10800" y="11866"/>
                </a:cubicBezTo>
                <a:lnTo>
                  <a:pt x="10800" y="20534"/>
                </a:lnTo>
                <a:cubicBezTo>
                  <a:pt x="10800" y="21067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9" name="TextBox 4"/>
          <p:cNvSpPr/>
          <p:nvPr/>
        </p:nvSpPr>
        <p:spPr>
          <a:xfrm>
            <a:off x="0" y="1981080"/>
            <a:ext cx="3200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View this slide in slide show mode (shift-F5). You should see a blue box here (a Flash movie). It may take a few seconds to load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t will check Flash movie permissions and interaction with Powerpoin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0" name="TextBox 6"/>
          <p:cNvSpPr/>
          <p:nvPr/>
        </p:nvSpPr>
        <p:spPr>
          <a:xfrm>
            <a:off x="0" y="6211800"/>
            <a:ext cx="9144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Learn more about this presentation at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linuxforlovers.wordpress.com/2009/03/15/dmp-asplos-presentation-readme/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881" name="ShockwaveFlash1"/>
          <p:cNvGraphicFramePr/>
          <p:nvPr/>
        </p:nvGraphicFramePr>
        <p:xfrm>
          <a:off x="3530520" y="1600200"/>
          <a:ext cx="5461200" cy="273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30520" y="1600200"/>
                    <a:ext cx="5461200" cy="2730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8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1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 multithreaded voting machi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4" name="Footer Placeholder 10"/>
          <p:cNvSpPr/>
          <p:nvPr/>
        </p:nvSpPr>
        <p:spPr>
          <a:xfrm>
            <a:off x="60948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TextBox 12"/>
          <p:cNvSpPr/>
          <p:nvPr/>
        </p:nvSpPr>
        <p:spPr>
          <a:xfrm>
            <a:off x="4762440" y="2819520"/>
            <a:ext cx="3619440" cy="1769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while (more_votes) {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load t &lt;- vote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t++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store t -&gt; vote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TextBox 14"/>
          <p:cNvSpPr/>
          <p:nvPr/>
        </p:nvSpPr>
        <p:spPr>
          <a:xfrm>
            <a:off x="1778400" y="236232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read 0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TextBox 17"/>
          <p:cNvSpPr/>
          <p:nvPr/>
        </p:nvSpPr>
        <p:spPr>
          <a:xfrm>
            <a:off x="5778720" y="236232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TextBox 13"/>
          <p:cNvSpPr/>
          <p:nvPr/>
        </p:nvSpPr>
        <p:spPr>
          <a:xfrm>
            <a:off x="762120" y="2819520"/>
            <a:ext cx="3619440" cy="1769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while (more_votes) {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load t &lt;- vote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t++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store t -&gt; vote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TextBox 15"/>
          <p:cNvSpPr/>
          <p:nvPr/>
        </p:nvSpPr>
        <p:spPr>
          <a:xfrm>
            <a:off x="3250800" y="2057400"/>
            <a:ext cx="2326680" cy="64260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data rac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440" name="Straight Arrow Connector 18"/>
          <p:cNvCxnSpPr/>
          <p:nvPr/>
        </p:nvCxnSpPr>
        <p:spPr>
          <a:xfrm flipH="1">
            <a:off x="2285280" y="2719800"/>
            <a:ext cx="1375560" cy="632520"/>
          </a:xfrm>
          <a:prstGeom prst="straightConnector1">
            <a:avLst/>
          </a:prstGeom>
          <a:ln cap="rnd"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1" name="Straight Arrow Connector 19"/>
          <p:cNvCxnSpPr/>
          <p:nvPr/>
        </p:nvCxnSpPr>
        <p:spPr>
          <a:xfrm>
            <a:off x="5075640" y="2717280"/>
            <a:ext cx="1019880" cy="1397880"/>
          </a:xfrm>
          <a:prstGeom prst="straightConnector1">
            <a:avLst/>
          </a:prstGeom>
          <a:ln cap="rnd" w="507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2" name="TextBox 27"/>
          <p:cNvSpPr/>
          <p:nvPr/>
        </p:nvSpPr>
        <p:spPr>
          <a:xfrm>
            <a:off x="333720" y="3276720"/>
            <a:ext cx="4502880" cy="64260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atomicity violation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Left Brace 28"/>
          <p:cNvSpPr/>
          <p:nvPr/>
        </p:nvSpPr>
        <p:spPr>
          <a:xfrm>
            <a:off x="4572000" y="327672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64080 h 914400"/>
              <a:gd name="textAreaBottom" fmla="*/ 8503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30"/>
                  <a:pt x="10800" y="4860"/>
                </a:cubicBezTo>
                <a:lnTo>
                  <a:pt x="10800" y="2903"/>
                </a:lnTo>
                <a:cubicBezTo>
                  <a:pt x="10800" y="5333"/>
                  <a:pt x="5400" y="7763"/>
                  <a:pt x="0" y="7763"/>
                </a:cubicBezTo>
                <a:cubicBezTo>
                  <a:pt x="5400" y="7763"/>
                  <a:pt x="10800" y="10193"/>
                  <a:pt x="10800" y="12623"/>
                </a:cubicBezTo>
                <a:lnTo>
                  <a:pt x="10800" y="16740"/>
                </a:lnTo>
                <a:cubicBezTo>
                  <a:pt x="10800" y="1917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TextBox 30"/>
          <p:cNvSpPr/>
          <p:nvPr/>
        </p:nvSpPr>
        <p:spPr>
          <a:xfrm>
            <a:off x="1360800" y="4495680"/>
            <a:ext cx="4143240" cy="119124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locking disciplin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violation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445" name="Straight Arrow Connector 31"/>
          <p:cNvCxnSpPr/>
          <p:nvPr/>
        </p:nvCxnSpPr>
        <p:spPr>
          <a:xfrm flipV="1">
            <a:off x="5188320" y="3560040"/>
            <a:ext cx="831240" cy="1097640"/>
          </a:xfrm>
          <a:prstGeom prst="straightConnector1">
            <a:avLst/>
          </a:prstGeom>
          <a:ln cap="rnd"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6" name="Straight Arrow Connector 35"/>
          <p:cNvCxnSpPr/>
          <p:nvPr/>
        </p:nvCxnSpPr>
        <p:spPr>
          <a:xfrm flipH="1" flipV="1">
            <a:off x="2147040" y="4074480"/>
            <a:ext cx="764280" cy="399240"/>
          </a:xfrm>
          <a:prstGeom prst="straightConnector1">
            <a:avLst/>
          </a:prstGeom>
          <a:ln cap="rnd" w="507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7" name="Rounded Rectangle 39"/>
          <p:cNvSpPr/>
          <p:nvPr/>
        </p:nvSpPr>
        <p:spPr>
          <a:xfrm>
            <a:off x="247680" y="2666880"/>
            <a:ext cx="8648640" cy="182880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we’re not trying to make these bugs go awa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we’re trying to make them 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come back!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48" name="Group 40"/>
          <p:cNvGrpSpPr/>
          <p:nvPr/>
        </p:nvGrpSpPr>
        <p:grpSpPr>
          <a:xfrm>
            <a:off x="6172200" y="5427720"/>
            <a:ext cx="439560" cy="528480"/>
            <a:chOff x="6172200" y="5427720"/>
            <a:chExt cx="439560" cy="528480"/>
          </a:xfrm>
        </p:grpSpPr>
        <p:sp>
          <p:nvSpPr>
            <p:cNvPr id="449" name="AutoShape 3"/>
            <p:cNvSpPr/>
            <p:nvPr/>
          </p:nvSpPr>
          <p:spPr>
            <a:xfrm>
              <a:off x="6172200" y="5427720"/>
              <a:ext cx="43956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0" name="Freeform 5"/>
            <p:cNvSpPr/>
            <p:nvPr/>
          </p:nvSpPr>
          <p:spPr>
            <a:xfrm>
              <a:off x="6321600" y="5445360"/>
              <a:ext cx="47520" cy="7308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1" name="Freeform 6"/>
            <p:cNvSpPr/>
            <p:nvPr/>
          </p:nvSpPr>
          <p:spPr>
            <a:xfrm>
              <a:off x="6470640" y="5459760"/>
              <a:ext cx="68760" cy="6768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2" name="Freeform 7"/>
            <p:cNvSpPr/>
            <p:nvPr/>
          </p:nvSpPr>
          <p:spPr>
            <a:xfrm>
              <a:off x="6341400" y="5509800"/>
              <a:ext cx="154800" cy="11124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3" name="Freeform 8"/>
            <p:cNvSpPr/>
            <p:nvPr/>
          </p:nvSpPr>
          <p:spPr>
            <a:xfrm>
              <a:off x="6173640" y="5590800"/>
              <a:ext cx="129240" cy="7884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4" name="Freeform 9"/>
            <p:cNvSpPr/>
            <p:nvPr/>
          </p:nvSpPr>
          <p:spPr>
            <a:xfrm>
              <a:off x="6473160" y="5644440"/>
              <a:ext cx="136800" cy="9504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5" name="Freeform 10"/>
            <p:cNvSpPr/>
            <p:nvPr/>
          </p:nvSpPr>
          <p:spPr>
            <a:xfrm>
              <a:off x="6237720" y="5828040"/>
              <a:ext cx="38160" cy="10440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6" name="Freeform 11"/>
            <p:cNvSpPr/>
            <p:nvPr/>
          </p:nvSpPr>
          <p:spPr>
            <a:xfrm>
              <a:off x="6189840" y="5799240"/>
              <a:ext cx="64440" cy="10440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7" name="Freeform 12"/>
            <p:cNvSpPr/>
            <p:nvPr/>
          </p:nvSpPr>
          <p:spPr>
            <a:xfrm>
              <a:off x="6416280" y="5822280"/>
              <a:ext cx="61920" cy="11124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8" name="Freeform 13"/>
            <p:cNvSpPr/>
            <p:nvPr/>
          </p:nvSpPr>
          <p:spPr>
            <a:xfrm>
              <a:off x="6446880" y="5784840"/>
              <a:ext cx="94320" cy="13572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9" name="Freeform 14"/>
            <p:cNvSpPr/>
            <p:nvPr/>
          </p:nvSpPr>
          <p:spPr>
            <a:xfrm>
              <a:off x="6225480" y="5588280"/>
              <a:ext cx="268560" cy="286200"/>
            </a:xfrm>
            <a:prstGeom prst="pi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0" name="Freeform 15"/>
            <p:cNvSpPr/>
            <p:nvPr/>
          </p:nvSpPr>
          <p:spPr>
            <a:xfrm>
              <a:off x="6225480" y="5588280"/>
              <a:ext cx="161640" cy="279360"/>
            </a:xfrm>
            <a:prstGeom prst="pie">
              <a:avLst/>
            </a:prstGeom>
            <a:solidFill>
              <a:srgbClr val="9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1" name="Freeform 16"/>
            <p:cNvSpPr/>
            <p:nvPr/>
          </p:nvSpPr>
          <p:spPr>
            <a:xfrm>
              <a:off x="6362640" y="5617080"/>
              <a:ext cx="76320" cy="4644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2" name="Freeform 17"/>
            <p:cNvSpPr/>
            <p:nvPr/>
          </p:nvSpPr>
          <p:spPr>
            <a:xfrm>
              <a:off x="6224760" y="5667120"/>
              <a:ext cx="32040" cy="7200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3" name="Freeform 18"/>
            <p:cNvSpPr/>
            <p:nvPr/>
          </p:nvSpPr>
          <p:spPr>
            <a:xfrm>
              <a:off x="6257880" y="5604480"/>
              <a:ext cx="50040" cy="3456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4" name="Freeform 19"/>
            <p:cNvSpPr/>
            <p:nvPr/>
          </p:nvSpPr>
          <p:spPr>
            <a:xfrm>
              <a:off x="6314040" y="5684400"/>
              <a:ext cx="82440" cy="9324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5" name="Freeform 20"/>
            <p:cNvSpPr/>
            <p:nvPr/>
          </p:nvSpPr>
          <p:spPr>
            <a:xfrm>
              <a:off x="6323400" y="5811120"/>
              <a:ext cx="64440" cy="3888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6" name="Freeform 21"/>
            <p:cNvSpPr/>
            <p:nvPr/>
          </p:nvSpPr>
          <p:spPr>
            <a:xfrm>
              <a:off x="6233400" y="5784840"/>
              <a:ext cx="28080" cy="4068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7" name="Freeform 22"/>
            <p:cNvSpPr/>
            <p:nvPr/>
          </p:nvSpPr>
          <p:spPr>
            <a:xfrm>
              <a:off x="6417000" y="5731200"/>
              <a:ext cx="52560" cy="5940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8" name="Freeform 23"/>
            <p:cNvSpPr/>
            <p:nvPr/>
          </p:nvSpPr>
          <p:spPr>
            <a:xfrm>
              <a:off x="6309720" y="5429160"/>
              <a:ext cx="29520" cy="3024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9" name="Freeform 24"/>
            <p:cNvSpPr/>
            <p:nvPr/>
          </p:nvSpPr>
          <p:spPr>
            <a:xfrm>
              <a:off x="6523560" y="5443560"/>
              <a:ext cx="30600" cy="3024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0" name="Freeform 25"/>
            <p:cNvSpPr/>
            <p:nvPr/>
          </p:nvSpPr>
          <p:spPr>
            <a:xfrm>
              <a:off x="6183000" y="5894280"/>
              <a:ext cx="30600" cy="2952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1" name="Freeform 26"/>
            <p:cNvSpPr/>
            <p:nvPr/>
          </p:nvSpPr>
          <p:spPr>
            <a:xfrm>
              <a:off x="6197400" y="5657040"/>
              <a:ext cx="29520" cy="2952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2" name="Freeform 27"/>
            <p:cNvSpPr/>
            <p:nvPr/>
          </p:nvSpPr>
          <p:spPr>
            <a:xfrm>
              <a:off x="6503760" y="5726880"/>
              <a:ext cx="29520" cy="2952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3" name="Freeform 28"/>
            <p:cNvSpPr/>
            <p:nvPr/>
          </p:nvSpPr>
          <p:spPr>
            <a:xfrm>
              <a:off x="6529320" y="5909760"/>
              <a:ext cx="29520" cy="3024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4" name="Freeform 29"/>
            <p:cNvSpPr/>
            <p:nvPr/>
          </p:nvSpPr>
          <p:spPr>
            <a:xfrm>
              <a:off x="6465600" y="5924880"/>
              <a:ext cx="29520" cy="2952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5" name="Freeform 30"/>
            <p:cNvSpPr/>
            <p:nvPr/>
          </p:nvSpPr>
          <p:spPr>
            <a:xfrm>
              <a:off x="6252840" y="5924880"/>
              <a:ext cx="29520" cy="2952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6" name="Freeform 31"/>
            <p:cNvSpPr/>
            <p:nvPr/>
          </p:nvSpPr>
          <p:spPr>
            <a:xfrm flipV="1" rot="445800">
              <a:off x="6377400" y="5563440"/>
              <a:ext cx="73800" cy="20520"/>
            </a:xfrm>
            <a:prstGeom prst="pie">
              <a:avLst/>
            </a:prstGeom>
            <a:solidFill>
              <a:srgbClr val="9bb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7" name="Oval 69"/>
            <p:cNvSpPr/>
            <p:nvPr/>
          </p:nvSpPr>
          <p:spPr>
            <a:xfrm>
              <a:off x="6392880" y="5533920"/>
              <a:ext cx="15120" cy="15120"/>
            </a:xfrm>
            <a:prstGeom prst="ellipse">
              <a:avLst/>
            </a:prstGeom>
            <a:solidFill>
              <a:srgbClr val="9bb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8" name="Oval 70"/>
            <p:cNvSpPr/>
            <p:nvPr/>
          </p:nvSpPr>
          <p:spPr>
            <a:xfrm>
              <a:off x="6425280" y="5536080"/>
              <a:ext cx="15120" cy="15120"/>
            </a:xfrm>
            <a:prstGeom prst="ellipse">
              <a:avLst/>
            </a:prstGeom>
            <a:solidFill>
              <a:srgbClr val="9bb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479" name="Group 71"/>
          <p:cNvGrpSpPr/>
          <p:nvPr/>
        </p:nvGrpSpPr>
        <p:grpSpPr>
          <a:xfrm>
            <a:off x="5562720" y="4589640"/>
            <a:ext cx="1125360" cy="1353960"/>
            <a:chOff x="5562720" y="4589640"/>
            <a:chExt cx="1125360" cy="1353960"/>
          </a:xfrm>
        </p:grpSpPr>
        <p:sp>
          <p:nvSpPr>
            <p:cNvPr id="480" name="AutoShape 3"/>
            <p:cNvSpPr/>
            <p:nvPr/>
          </p:nvSpPr>
          <p:spPr>
            <a:xfrm>
              <a:off x="5562720" y="4589640"/>
              <a:ext cx="1125360" cy="13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1" name="Freeform 5"/>
            <p:cNvSpPr/>
            <p:nvPr/>
          </p:nvSpPr>
          <p:spPr>
            <a:xfrm>
              <a:off x="5945760" y="4635360"/>
              <a:ext cx="121680" cy="18684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2" name="Freeform 6"/>
            <p:cNvSpPr/>
            <p:nvPr/>
          </p:nvSpPr>
          <p:spPr>
            <a:xfrm>
              <a:off x="6327000" y="4672440"/>
              <a:ext cx="176040" cy="17388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3" name="Freeform 7"/>
            <p:cNvSpPr/>
            <p:nvPr/>
          </p:nvSpPr>
          <p:spPr>
            <a:xfrm>
              <a:off x="5995800" y="4800600"/>
              <a:ext cx="396360" cy="28512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4" name="Freeform 8"/>
            <p:cNvSpPr/>
            <p:nvPr/>
          </p:nvSpPr>
          <p:spPr>
            <a:xfrm>
              <a:off x="5567040" y="5007600"/>
              <a:ext cx="330840" cy="20232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5" name="Freeform 9"/>
            <p:cNvSpPr/>
            <p:nvPr/>
          </p:nvSpPr>
          <p:spPr>
            <a:xfrm>
              <a:off x="6333480" y="5144760"/>
              <a:ext cx="350280" cy="24336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6" name="Freeform 10"/>
            <p:cNvSpPr/>
            <p:nvPr/>
          </p:nvSpPr>
          <p:spPr>
            <a:xfrm>
              <a:off x="5730120" y="5614920"/>
              <a:ext cx="97560" cy="26784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7" name="Freeform 11"/>
            <p:cNvSpPr/>
            <p:nvPr/>
          </p:nvSpPr>
          <p:spPr>
            <a:xfrm>
              <a:off x="5608440" y="5541120"/>
              <a:ext cx="164880" cy="26748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8" name="Freeform 12"/>
            <p:cNvSpPr/>
            <p:nvPr/>
          </p:nvSpPr>
          <p:spPr>
            <a:xfrm>
              <a:off x="6187320" y="5599800"/>
              <a:ext cx="159120" cy="28476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9" name="Freeform 13"/>
            <p:cNvSpPr/>
            <p:nvPr/>
          </p:nvSpPr>
          <p:spPr>
            <a:xfrm>
              <a:off x="6265800" y="5504040"/>
              <a:ext cx="241920" cy="34812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0" name="Freeform 14"/>
            <p:cNvSpPr/>
            <p:nvPr/>
          </p:nvSpPr>
          <p:spPr>
            <a:xfrm>
              <a:off x="5699880" y="5001120"/>
              <a:ext cx="687960" cy="733320"/>
            </a:xfrm>
            <a:prstGeom prst="pi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1" name="Freeform 15"/>
            <p:cNvSpPr/>
            <p:nvPr/>
          </p:nvSpPr>
          <p:spPr>
            <a:xfrm>
              <a:off x="5699880" y="5001120"/>
              <a:ext cx="413640" cy="716040"/>
            </a:xfrm>
            <a:prstGeom prst="pie">
              <a:avLst/>
            </a:prstGeom>
            <a:solidFill>
              <a:srgbClr val="9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2" name="Freeform 16"/>
            <p:cNvSpPr/>
            <p:nvPr/>
          </p:nvSpPr>
          <p:spPr>
            <a:xfrm>
              <a:off x="6050160" y="5074920"/>
              <a:ext cx="195840" cy="11952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3" name="Freeform 17"/>
            <p:cNvSpPr/>
            <p:nvPr/>
          </p:nvSpPr>
          <p:spPr>
            <a:xfrm>
              <a:off x="5697720" y="5203440"/>
              <a:ext cx="82080" cy="18504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4" name="Freeform 18"/>
            <p:cNvSpPr/>
            <p:nvPr/>
          </p:nvSpPr>
          <p:spPr>
            <a:xfrm>
              <a:off x="5782680" y="5042520"/>
              <a:ext cx="128160" cy="8856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5" name="Freeform 19"/>
            <p:cNvSpPr/>
            <p:nvPr/>
          </p:nvSpPr>
          <p:spPr>
            <a:xfrm>
              <a:off x="5926320" y="5247000"/>
              <a:ext cx="210960" cy="23940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6" name="Freeform 20"/>
            <p:cNvSpPr/>
            <p:nvPr/>
          </p:nvSpPr>
          <p:spPr>
            <a:xfrm>
              <a:off x="5950080" y="5571360"/>
              <a:ext cx="164880" cy="10008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7" name="Freeform 21"/>
            <p:cNvSpPr/>
            <p:nvPr/>
          </p:nvSpPr>
          <p:spPr>
            <a:xfrm>
              <a:off x="5719320" y="5504040"/>
              <a:ext cx="71640" cy="10404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8" name="Freeform 22"/>
            <p:cNvSpPr/>
            <p:nvPr/>
          </p:nvSpPr>
          <p:spPr>
            <a:xfrm>
              <a:off x="6189840" y="5366880"/>
              <a:ext cx="134640" cy="15192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9" name="Freeform 23"/>
            <p:cNvSpPr/>
            <p:nvPr/>
          </p:nvSpPr>
          <p:spPr>
            <a:xfrm>
              <a:off x="5915160" y="4593960"/>
              <a:ext cx="76320" cy="7812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0" name="Freeform 24"/>
            <p:cNvSpPr/>
            <p:nvPr/>
          </p:nvSpPr>
          <p:spPr>
            <a:xfrm>
              <a:off x="6461640" y="4631040"/>
              <a:ext cx="78120" cy="7812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1" name="Freeform 25"/>
            <p:cNvSpPr/>
            <p:nvPr/>
          </p:nvSpPr>
          <p:spPr>
            <a:xfrm>
              <a:off x="5590800" y="5784480"/>
              <a:ext cx="78120" cy="7632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2" name="Freeform 26"/>
            <p:cNvSpPr/>
            <p:nvPr/>
          </p:nvSpPr>
          <p:spPr>
            <a:xfrm>
              <a:off x="5627880" y="5177160"/>
              <a:ext cx="76320" cy="7632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3" name="Freeform 27"/>
            <p:cNvSpPr/>
            <p:nvPr/>
          </p:nvSpPr>
          <p:spPr>
            <a:xfrm>
              <a:off x="6411960" y="5356080"/>
              <a:ext cx="76320" cy="7632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4" name="Freeform 28"/>
            <p:cNvSpPr/>
            <p:nvPr/>
          </p:nvSpPr>
          <p:spPr>
            <a:xfrm>
              <a:off x="6477120" y="5824080"/>
              <a:ext cx="75600" cy="7812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5" name="Freeform 29"/>
            <p:cNvSpPr/>
            <p:nvPr/>
          </p:nvSpPr>
          <p:spPr>
            <a:xfrm>
              <a:off x="6313680" y="5863320"/>
              <a:ext cx="76320" cy="7560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6" name="Freeform 30"/>
            <p:cNvSpPr/>
            <p:nvPr/>
          </p:nvSpPr>
          <p:spPr>
            <a:xfrm>
              <a:off x="5769720" y="5863320"/>
              <a:ext cx="75600" cy="7560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7" name="Freeform 31"/>
            <p:cNvSpPr/>
            <p:nvPr/>
          </p:nvSpPr>
          <p:spPr>
            <a:xfrm flipV="1" rot="445800">
              <a:off x="6088680" y="4939560"/>
              <a:ext cx="189360" cy="51840"/>
            </a:xfrm>
            <a:prstGeom prst="pie">
              <a:avLst/>
            </a:prstGeom>
            <a:solidFill>
              <a:srgbClr val="9bb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8" name="Oval 100"/>
            <p:cNvSpPr/>
            <p:nvPr/>
          </p:nvSpPr>
          <p:spPr>
            <a:xfrm>
              <a:off x="6127560" y="4862160"/>
              <a:ext cx="38880" cy="38880"/>
            </a:xfrm>
            <a:prstGeom prst="ellipse">
              <a:avLst/>
            </a:prstGeom>
            <a:solidFill>
              <a:srgbClr val="9bb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9" name="Oval 101"/>
            <p:cNvSpPr/>
            <p:nvPr/>
          </p:nvSpPr>
          <p:spPr>
            <a:xfrm>
              <a:off x="6210360" y="4867200"/>
              <a:ext cx="38880" cy="38880"/>
            </a:xfrm>
            <a:prstGeom prst="ellipse">
              <a:avLst/>
            </a:prstGeom>
            <a:solidFill>
              <a:srgbClr val="9bb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510" name="Group 102"/>
          <p:cNvGrpSpPr/>
          <p:nvPr/>
        </p:nvGrpSpPr>
        <p:grpSpPr>
          <a:xfrm>
            <a:off x="4724280" y="3657600"/>
            <a:ext cx="1963800" cy="2362320"/>
            <a:chOff x="4724280" y="3657600"/>
            <a:chExt cx="1963800" cy="2362320"/>
          </a:xfrm>
        </p:grpSpPr>
        <p:sp>
          <p:nvSpPr>
            <p:cNvPr id="511" name="AutoShape 3"/>
            <p:cNvSpPr/>
            <p:nvPr/>
          </p:nvSpPr>
          <p:spPr>
            <a:xfrm>
              <a:off x="4724280" y="3657600"/>
              <a:ext cx="196380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2" name="Freeform 5"/>
            <p:cNvSpPr/>
            <p:nvPr/>
          </p:nvSpPr>
          <p:spPr>
            <a:xfrm>
              <a:off x="5392800" y="3737520"/>
              <a:ext cx="212400" cy="32616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3" name="Freeform 6"/>
            <p:cNvSpPr/>
            <p:nvPr/>
          </p:nvSpPr>
          <p:spPr>
            <a:xfrm>
              <a:off x="6057720" y="3801960"/>
              <a:ext cx="307080" cy="30348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4" name="Freeform 7"/>
            <p:cNvSpPr/>
            <p:nvPr/>
          </p:nvSpPr>
          <p:spPr>
            <a:xfrm>
              <a:off x="5479920" y="4025880"/>
              <a:ext cx="691920" cy="49788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5" name="Freeform 8"/>
            <p:cNvSpPr/>
            <p:nvPr/>
          </p:nvSpPr>
          <p:spPr>
            <a:xfrm>
              <a:off x="4731840" y="4386960"/>
              <a:ext cx="577080" cy="35316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6" name="Freeform 9"/>
            <p:cNvSpPr/>
            <p:nvPr/>
          </p:nvSpPr>
          <p:spPr>
            <a:xfrm>
              <a:off x="6069240" y="4626360"/>
              <a:ext cx="610920" cy="42480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7" name="Freeform 10"/>
            <p:cNvSpPr/>
            <p:nvPr/>
          </p:nvSpPr>
          <p:spPr>
            <a:xfrm>
              <a:off x="5016600" y="5446440"/>
              <a:ext cx="170640" cy="46728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8" name="Freeform 11"/>
            <p:cNvSpPr/>
            <p:nvPr/>
          </p:nvSpPr>
          <p:spPr>
            <a:xfrm>
              <a:off x="4804200" y="5317560"/>
              <a:ext cx="288000" cy="46656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9" name="Freeform 12"/>
            <p:cNvSpPr/>
            <p:nvPr/>
          </p:nvSpPr>
          <p:spPr>
            <a:xfrm>
              <a:off x="5814360" y="5420160"/>
              <a:ext cx="277560" cy="49716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20" name="Freeform 13"/>
            <p:cNvSpPr/>
            <p:nvPr/>
          </p:nvSpPr>
          <p:spPr>
            <a:xfrm>
              <a:off x="5950800" y="5253120"/>
              <a:ext cx="421920" cy="60732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21" name="Freeform 14"/>
            <p:cNvSpPr/>
            <p:nvPr/>
          </p:nvSpPr>
          <p:spPr>
            <a:xfrm>
              <a:off x="4963680" y="4375440"/>
              <a:ext cx="1200240" cy="1279440"/>
            </a:xfrm>
            <a:prstGeom prst="pi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22" name="Freeform 15"/>
            <p:cNvSpPr/>
            <p:nvPr/>
          </p:nvSpPr>
          <p:spPr>
            <a:xfrm>
              <a:off x="4963680" y="4375440"/>
              <a:ext cx="721440" cy="1249200"/>
            </a:xfrm>
            <a:prstGeom prst="pie">
              <a:avLst/>
            </a:prstGeom>
            <a:solidFill>
              <a:srgbClr val="9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23" name="Freeform 16"/>
            <p:cNvSpPr/>
            <p:nvPr/>
          </p:nvSpPr>
          <p:spPr>
            <a:xfrm>
              <a:off x="5574960" y="4504320"/>
              <a:ext cx="342000" cy="20880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24" name="Freeform 17"/>
            <p:cNvSpPr/>
            <p:nvPr/>
          </p:nvSpPr>
          <p:spPr>
            <a:xfrm>
              <a:off x="4960080" y="4728240"/>
              <a:ext cx="143640" cy="32292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25" name="Freeform 18"/>
            <p:cNvSpPr/>
            <p:nvPr/>
          </p:nvSpPr>
          <p:spPr>
            <a:xfrm>
              <a:off x="5108040" y="4447800"/>
              <a:ext cx="223560" cy="15480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26" name="Freeform 19"/>
            <p:cNvSpPr/>
            <p:nvPr/>
          </p:nvSpPr>
          <p:spPr>
            <a:xfrm>
              <a:off x="5358600" y="4804920"/>
              <a:ext cx="368280" cy="41760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27" name="Freeform 20"/>
            <p:cNvSpPr/>
            <p:nvPr/>
          </p:nvSpPr>
          <p:spPr>
            <a:xfrm>
              <a:off x="5400720" y="5370480"/>
              <a:ext cx="288000" cy="17460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4997520" y="5253120"/>
              <a:ext cx="125280" cy="18180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>
              <a:off x="5818320" y="5013720"/>
              <a:ext cx="235080" cy="26532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30" name="Freeform 23"/>
            <p:cNvSpPr/>
            <p:nvPr/>
          </p:nvSpPr>
          <p:spPr>
            <a:xfrm>
              <a:off x="5339520" y="3665160"/>
              <a:ext cx="132840" cy="13644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31" name="Freeform 24"/>
            <p:cNvSpPr/>
            <p:nvPr/>
          </p:nvSpPr>
          <p:spPr>
            <a:xfrm>
              <a:off x="6293160" y="3729600"/>
              <a:ext cx="136440" cy="13644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32" name="Freeform 25"/>
            <p:cNvSpPr/>
            <p:nvPr/>
          </p:nvSpPr>
          <p:spPr>
            <a:xfrm>
              <a:off x="4773600" y="5742360"/>
              <a:ext cx="136440" cy="13284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33" name="Freeform 26"/>
            <p:cNvSpPr/>
            <p:nvPr/>
          </p:nvSpPr>
          <p:spPr>
            <a:xfrm>
              <a:off x="4838040" y="4682880"/>
              <a:ext cx="132840" cy="13284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34" name="Freeform 27"/>
            <p:cNvSpPr/>
            <p:nvPr/>
          </p:nvSpPr>
          <p:spPr>
            <a:xfrm>
              <a:off x="6206040" y="4994640"/>
              <a:ext cx="132840" cy="13284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35" name="Freeform 28"/>
            <p:cNvSpPr/>
            <p:nvPr/>
          </p:nvSpPr>
          <p:spPr>
            <a:xfrm>
              <a:off x="6319800" y="5811120"/>
              <a:ext cx="132120" cy="13644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36" name="Freeform 29"/>
            <p:cNvSpPr/>
            <p:nvPr/>
          </p:nvSpPr>
          <p:spPr>
            <a:xfrm>
              <a:off x="6034320" y="5879880"/>
              <a:ext cx="132840" cy="13212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37" name="Freeform 30"/>
            <p:cNvSpPr/>
            <p:nvPr/>
          </p:nvSpPr>
          <p:spPr>
            <a:xfrm>
              <a:off x="5085360" y="5879880"/>
              <a:ext cx="132120" cy="132120"/>
            </a:xfrm>
            <a:prstGeom prst="pie">
              <a:avLst/>
            </a:prstGeom>
            <a:solidFill>
              <a:srgbClr val="341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38" name="Freeform 31"/>
            <p:cNvSpPr/>
            <p:nvPr/>
          </p:nvSpPr>
          <p:spPr>
            <a:xfrm flipV="1" rot="445800">
              <a:off x="5641920" y="4268880"/>
              <a:ext cx="330480" cy="90360"/>
            </a:xfrm>
            <a:prstGeom prst="pie">
              <a:avLst/>
            </a:prstGeom>
            <a:solidFill>
              <a:srgbClr val="9bb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39" name="Oval 131"/>
            <p:cNvSpPr/>
            <p:nvPr/>
          </p:nvSpPr>
          <p:spPr>
            <a:xfrm>
              <a:off x="5709960" y="4133520"/>
              <a:ext cx="67680" cy="67680"/>
            </a:xfrm>
            <a:prstGeom prst="ellipse">
              <a:avLst/>
            </a:prstGeom>
            <a:solidFill>
              <a:srgbClr val="9bb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40" name="Oval 132"/>
            <p:cNvSpPr/>
            <p:nvPr/>
          </p:nvSpPr>
          <p:spPr>
            <a:xfrm>
              <a:off x="5854680" y="4141800"/>
              <a:ext cx="67680" cy="67680"/>
            </a:xfrm>
            <a:prstGeom prst="ellipse">
              <a:avLst/>
            </a:prstGeom>
            <a:solidFill>
              <a:srgbClr val="9bb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541" name="Slide Number Placeholder 13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9546-8588-4A3B-8779-A4F980F1985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3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8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3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Content Placeholder 5" descr="iceberg-large.jpg"/>
          <p:cNvPicPr/>
          <p:nvPr/>
        </p:nvPicPr>
        <p:blipFill>
          <a:blip r:embed="rId1"/>
          <a:stretch/>
        </p:blipFill>
        <p:spPr>
          <a:xfrm>
            <a:off x="3809880" y="1523880"/>
            <a:ext cx="3957840" cy="5029200"/>
          </a:xfrm>
          <a:prstGeom prst="rect">
            <a:avLst/>
          </a:prstGeom>
          <a:ln w="0">
            <a:noFill/>
          </a:ln>
        </p:spPr>
      </p:pic>
      <p:pic>
        <p:nvPicPr>
          <p:cNvPr id="543" name="Content Placeholder 5" descr="iceberg-large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3809880" y="1523880"/>
            <a:ext cx="3957840" cy="50292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y is parallel programming hard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B989-71F4-4117-AC40-B854B490AF9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60948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547" name="Straight Arrow Connector 7"/>
          <p:cNvCxnSpPr/>
          <p:nvPr/>
        </p:nvCxnSpPr>
        <p:spPr>
          <a:xfrm>
            <a:off x="3852720" y="2023560"/>
            <a:ext cx="2039040" cy="420120"/>
          </a:xfrm>
          <a:prstGeom prst="straightConnector1">
            <a:avLst/>
          </a:prstGeom>
          <a:ln cap="rnd"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8" name="TextBox 12"/>
          <p:cNvSpPr/>
          <p:nvPr/>
        </p:nvSpPr>
        <p:spPr>
          <a:xfrm>
            <a:off x="492840" y="1752480"/>
            <a:ext cx="3600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sequential bug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TextBox 16"/>
          <p:cNvSpPr/>
          <p:nvPr/>
        </p:nvSpPr>
        <p:spPr>
          <a:xfrm>
            <a:off x="141840" y="2500200"/>
            <a:ext cx="4015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oncurrency bug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TextBox 19"/>
          <p:cNvSpPr/>
          <p:nvPr/>
        </p:nvSpPr>
        <p:spPr>
          <a:xfrm>
            <a:off x="343800" y="4038480"/>
            <a:ext cx="383832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nondeterministic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memory acces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interleaving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Left Brace 26"/>
          <p:cNvSpPr/>
          <p:nvPr/>
        </p:nvSpPr>
        <p:spPr>
          <a:xfrm>
            <a:off x="3886200" y="3200400"/>
            <a:ext cx="990720" cy="3124080"/>
          </a:xfrm>
          <a:custGeom>
            <a:avLst/>
            <a:gdLst>
              <a:gd name="textAreaLeft" fmla="*/ 632880 w 990720"/>
              <a:gd name="textAreaRight" fmla="*/ 991080 w 990720"/>
              <a:gd name="textAreaTop" fmla="*/ 98280 h 3124080"/>
              <a:gd name="textAreaBottom" fmla="*/ 302580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88"/>
                  <a:pt x="10800" y="2175"/>
                </a:cubicBezTo>
                <a:lnTo>
                  <a:pt x="10800" y="8625"/>
                </a:lnTo>
                <a:cubicBezTo>
                  <a:pt x="10800" y="9713"/>
                  <a:pt x="5400" y="10800"/>
                  <a:pt x="0" y="10800"/>
                </a:cubicBezTo>
                <a:cubicBezTo>
                  <a:pt x="5400" y="10800"/>
                  <a:pt x="10800" y="11888"/>
                  <a:pt x="10800" y="12975"/>
                </a:cubicBezTo>
                <a:lnTo>
                  <a:pt x="10800" y="19425"/>
                </a:lnTo>
                <a:cubicBezTo>
                  <a:pt x="10800" y="20513"/>
                  <a:pt x="16200" y="21600"/>
                  <a:pt x="21600" y="21600"/>
                </a:cubicBezTo>
              </a:path>
            </a:pathLst>
          </a:custGeom>
          <a:noFill/>
          <a:ln cap="rnd"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TextBox 29"/>
          <p:cNvSpPr/>
          <p:nvPr/>
        </p:nvSpPr>
        <p:spPr>
          <a:xfrm>
            <a:off x="4495680" y="3465360"/>
            <a:ext cx="327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hard to debug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indent="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hard to tes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indent="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hard to replicat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indent="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hard to leverag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   crash informatio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Left Brace 36"/>
          <p:cNvSpPr/>
          <p:nvPr/>
        </p:nvSpPr>
        <p:spPr>
          <a:xfrm>
            <a:off x="3886200" y="2438280"/>
            <a:ext cx="990720" cy="685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56"/>
                  <a:pt x="10800" y="3512"/>
                </a:cubicBezTo>
                <a:lnTo>
                  <a:pt x="10800" y="7288"/>
                </a:lnTo>
                <a:cubicBezTo>
                  <a:pt x="10800" y="9044"/>
                  <a:pt x="5400" y="10800"/>
                  <a:pt x="0" y="10800"/>
                </a:cubicBezTo>
                <a:cubicBezTo>
                  <a:pt x="5400" y="10800"/>
                  <a:pt x="10800" y="12556"/>
                  <a:pt x="10800" y="14312"/>
                </a:cubicBezTo>
                <a:lnTo>
                  <a:pt x="10800" y="18088"/>
                </a:lnTo>
                <a:cubicBezTo>
                  <a:pt x="10800" y="19844"/>
                  <a:pt x="16200" y="21600"/>
                  <a:pt x="21600" y="21600"/>
                </a:cubicBezTo>
              </a:path>
            </a:pathLst>
          </a:custGeom>
          <a:noFill/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Rounded Rectangle 13"/>
          <p:cNvSpPr/>
          <p:nvPr/>
        </p:nvSpPr>
        <p:spPr>
          <a:xfrm>
            <a:off x="152280" y="2590920"/>
            <a:ext cx="8839440" cy="2133360"/>
          </a:xfrm>
          <a:prstGeom prst="roundRect">
            <a:avLst>
              <a:gd name="adj" fmla="val 16667"/>
            </a:avLst>
          </a:prstGeom>
          <a:solidFill>
            <a:srgbClr val="ffffff">
              <a:alpha val="95000"/>
            </a:srgbClr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We want </a:t>
            </a: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parallel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programs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to behave like </a:t>
            </a: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sequential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program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eterminism Can Help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6" name="Right Arrow 3"/>
          <p:cNvSpPr/>
          <p:nvPr/>
        </p:nvSpPr>
        <p:spPr>
          <a:xfrm>
            <a:off x="152280" y="1981080"/>
            <a:ext cx="8991720" cy="2895840"/>
          </a:xfrm>
          <a:prstGeom prst="rightArrow">
            <a:avLst>
              <a:gd name="adj1" fmla="val 70935"/>
              <a:gd name="adj2" fmla="val 37936"/>
            </a:avLst>
          </a:prstGeom>
          <a:solidFill>
            <a:srgbClr val="b95b22"/>
          </a:solidFill>
          <a:ln w="10080">
            <a:solidFill>
              <a:srgbClr val="dd8047"/>
            </a:solidFill>
            <a:miter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TextBox 4"/>
          <p:cNvSpPr/>
          <p:nvPr/>
        </p:nvSpPr>
        <p:spPr>
          <a:xfrm>
            <a:off x="-141120" y="1930320"/>
            <a:ext cx="27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TextBox 5"/>
          <p:cNvSpPr/>
          <p:nvPr/>
        </p:nvSpPr>
        <p:spPr>
          <a:xfrm>
            <a:off x="5711760" y="1930320"/>
            <a:ext cx="25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TextBox 7"/>
          <p:cNvSpPr/>
          <p:nvPr/>
        </p:nvSpPr>
        <p:spPr>
          <a:xfrm>
            <a:off x="55440" y="252108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182520">
              <a:buClr>
                <a:srgbClr val="ffffff"/>
              </a:buClr>
              <a:buFont typeface="Arial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no more heisenbugs!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182520">
              <a:buClr>
                <a:srgbClr val="ffffff"/>
              </a:buClr>
              <a:buFont typeface="Arial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time-travel debugg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182520">
              <a:buClr>
                <a:srgbClr val="ffffff"/>
              </a:buClr>
              <a:buFont typeface="Arial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test inputs, not     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182520"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interleaving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0" name="TextBox 8"/>
          <p:cNvSpPr/>
          <p:nvPr/>
        </p:nvSpPr>
        <p:spPr>
          <a:xfrm>
            <a:off x="4114800" y="273672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182520">
              <a:buClr>
                <a:srgbClr val="ffffff"/>
              </a:buClr>
              <a:buFont typeface="Arial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reproduce bugs from fiel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182520">
              <a:buClr>
                <a:srgbClr val="ffffff"/>
              </a:buClr>
              <a:buFont typeface="Arial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easy to synchronize replic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182520">
              <a:buClr>
                <a:srgbClr val="ffffff"/>
              </a:buClr>
              <a:buFont typeface="Arial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software behaves as tested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1" name="TextBox 10"/>
          <p:cNvSpPr/>
          <p:nvPr/>
        </p:nvSpPr>
        <p:spPr>
          <a:xfrm>
            <a:off x="344160" y="4800600"/>
            <a:ext cx="845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Can we remove nondeterminism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Tw Cen MT"/>
              </a:rPr>
              <a:t>without</a:t>
            </a: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 removing performance?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Footer Placeholder 12"/>
          <p:cNvSpPr/>
          <p:nvPr/>
        </p:nvSpPr>
        <p:spPr>
          <a:xfrm>
            <a:off x="60948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Slide Number Placeholder 9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0B37-AC71-449F-B288-16E65296060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MP from 10,000’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12720" y="1600200"/>
            <a:ext cx="8150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only care about communicating instruc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terministic serialization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→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e communic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ut I promised you performance!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cover parallelism from non-communicating ins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60948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3404-B752-4EE3-A3BB-12127C2FF61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68" name="ShockwaveFlash1"/>
          <p:cNvGraphicFramePr/>
          <p:nvPr/>
        </p:nvGraphicFramePr>
        <p:xfrm>
          <a:off x="762120" y="3809880"/>
          <a:ext cx="761976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809880"/>
                    <a:ext cx="7619760" cy="26672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lated 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114480" y="1878120"/>
          <a:ext cx="8915400" cy="4282920"/>
        </p:xfrm>
        <a:graphic>
          <a:graphicData uri="http://schemas.openxmlformats.org/drawingml/2006/table">
            <a:tbl>
              <a:tblPr/>
              <a:tblGrid>
                <a:gridCol w="2712960"/>
                <a:gridCol w="3178080"/>
                <a:gridCol w="1628640"/>
                <a:gridCol w="13957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Helps with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Record + Repl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Kend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M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e2ed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…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ebuggin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…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estin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…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eplica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…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eployment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eeds hw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usuall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y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068840">
                <a:tc>
                  <a:txBody>
                    <a:bodyPr lIns="90000" rIns="18288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xample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182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DR, ReRun, Cap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grpSp>
        <p:nvGrpSpPr>
          <p:cNvPr id="572" name="Group 36"/>
          <p:cNvGrpSpPr/>
          <p:nvPr/>
        </p:nvGrpSpPr>
        <p:grpSpPr>
          <a:xfrm>
            <a:off x="10058400" y="609480"/>
            <a:ext cx="285840" cy="298440"/>
            <a:chOff x="10058400" y="609480"/>
            <a:chExt cx="285840" cy="298440"/>
          </a:xfrm>
        </p:grpSpPr>
        <p:sp>
          <p:nvSpPr>
            <p:cNvPr id="573" name="Oval 23"/>
            <p:cNvSpPr/>
            <p:nvPr/>
          </p:nvSpPr>
          <p:spPr>
            <a:xfrm>
              <a:off x="10058400" y="609480"/>
              <a:ext cx="285840" cy="286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4" name="Freeform 24"/>
            <p:cNvSpPr/>
            <p:nvPr/>
          </p:nvSpPr>
          <p:spPr>
            <a:xfrm>
              <a:off x="10060560" y="764640"/>
              <a:ext cx="283680" cy="14328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575" name="Oval 26"/>
          <p:cNvSpPr/>
          <p:nvPr/>
        </p:nvSpPr>
        <p:spPr>
          <a:xfrm>
            <a:off x="10439280" y="609480"/>
            <a:ext cx="285840" cy="285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6" name="Oval 28"/>
          <p:cNvSpPr/>
          <p:nvPr/>
        </p:nvSpPr>
        <p:spPr>
          <a:xfrm>
            <a:off x="9601200" y="609480"/>
            <a:ext cx="285840" cy="2858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Oval 29"/>
          <p:cNvSpPr/>
          <p:nvPr/>
        </p:nvSpPr>
        <p:spPr>
          <a:xfrm>
            <a:off x="4267080" y="3179880"/>
            <a:ext cx="285840" cy="285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Oval 30"/>
          <p:cNvSpPr/>
          <p:nvPr/>
        </p:nvSpPr>
        <p:spPr>
          <a:xfrm>
            <a:off x="4267080" y="3768840"/>
            <a:ext cx="285840" cy="285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Oval 31"/>
          <p:cNvSpPr/>
          <p:nvPr/>
        </p:nvSpPr>
        <p:spPr>
          <a:xfrm>
            <a:off x="4267080" y="4354560"/>
            <a:ext cx="285840" cy="285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0" name="Oval 32"/>
          <p:cNvSpPr/>
          <p:nvPr/>
        </p:nvSpPr>
        <p:spPr>
          <a:xfrm>
            <a:off x="8229600" y="2602080"/>
            <a:ext cx="285840" cy="2854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Oval 33"/>
          <p:cNvSpPr/>
          <p:nvPr/>
        </p:nvSpPr>
        <p:spPr>
          <a:xfrm>
            <a:off x="8229600" y="3179880"/>
            <a:ext cx="285840" cy="2854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Oval 34"/>
          <p:cNvSpPr/>
          <p:nvPr/>
        </p:nvSpPr>
        <p:spPr>
          <a:xfrm>
            <a:off x="8229600" y="3768840"/>
            <a:ext cx="285840" cy="2854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Oval 35"/>
          <p:cNvSpPr/>
          <p:nvPr/>
        </p:nvSpPr>
        <p:spPr>
          <a:xfrm>
            <a:off x="8229600" y="4354560"/>
            <a:ext cx="285840" cy="2858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84" name="Group 37"/>
          <p:cNvGrpSpPr/>
          <p:nvPr/>
        </p:nvGrpSpPr>
        <p:grpSpPr>
          <a:xfrm>
            <a:off x="6705720" y="2595600"/>
            <a:ext cx="285480" cy="298440"/>
            <a:chOff x="6705720" y="2595600"/>
            <a:chExt cx="285480" cy="298440"/>
          </a:xfrm>
        </p:grpSpPr>
        <p:sp>
          <p:nvSpPr>
            <p:cNvPr id="585" name="Oval 38"/>
            <p:cNvSpPr/>
            <p:nvPr/>
          </p:nvSpPr>
          <p:spPr>
            <a:xfrm>
              <a:off x="6705720" y="2595600"/>
              <a:ext cx="285480" cy="286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6" name="Freeform 39"/>
            <p:cNvSpPr/>
            <p:nvPr/>
          </p:nvSpPr>
          <p:spPr>
            <a:xfrm>
              <a:off x="6707880" y="2750760"/>
              <a:ext cx="283320" cy="14328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587" name="Group 40"/>
          <p:cNvGrpSpPr/>
          <p:nvPr/>
        </p:nvGrpSpPr>
        <p:grpSpPr>
          <a:xfrm>
            <a:off x="6705720" y="3173400"/>
            <a:ext cx="285480" cy="298440"/>
            <a:chOff x="6705720" y="3173400"/>
            <a:chExt cx="285480" cy="298440"/>
          </a:xfrm>
        </p:grpSpPr>
        <p:sp>
          <p:nvSpPr>
            <p:cNvPr id="588" name="Oval 41"/>
            <p:cNvSpPr/>
            <p:nvPr/>
          </p:nvSpPr>
          <p:spPr>
            <a:xfrm>
              <a:off x="6705720" y="3173400"/>
              <a:ext cx="285480" cy="286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9" name="Freeform 42"/>
            <p:cNvSpPr/>
            <p:nvPr/>
          </p:nvSpPr>
          <p:spPr>
            <a:xfrm>
              <a:off x="6707880" y="3328560"/>
              <a:ext cx="283320" cy="14328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590" name="Group 43"/>
          <p:cNvGrpSpPr/>
          <p:nvPr/>
        </p:nvGrpSpPr>
        <p:grpSpPr>
          <a:xfrm>
            <a:off x="6705720" y="3762360"/>
            <a:ext cx="285480" cy="298440"/>
            <a:chOff x="6705720" y="3762360"/>
            <a:chExt cx="285480" cy="298440"/>
          </a:xfrm>
        </p:grpSpPr>
        <p:sp>
          <p:nvSpPr>
            <p:cNvPr id="591" name="Oval 44"/>
            <p:cNvSpPr/>
            <p:nvPr/>
          </p:nvSpPr>
          <p:spPr>
            <a:xfrm>
              <a:off x="6705720" y="3762360"/>
              <a:ext cx="285480" cy="286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2" name="Freeform 45"/>
            <p:cNvSpPr/>
            <p:nvPr/>
          </p:nvSpPr>
          <p:spPr>
            <a:xfrm>
              <a:off x="6707880" y="3917520"/>
              <a:ext cx="283320" cy="14328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593" name="Group 46"/>
          <p:cNvGrpSpPr/>
          <p:nvPr/>
        </p:nvGrpSpPr>
        <p:grpSpPr>
          <a:xfrm>
            <a:off x="6705720" y="4349880"/>
            <a:ext cx="285480" cy="296640"/>
            <a:chOff x="6705720" y="4349880"/>
            <a:chExt cx="285480" cy="296640"/>
          </a:xfrm>
        </p:grpSpPr>
        <p:sp>
          <p:nvSpPr>
            <p:cNvPr id="594" name="Oval 47"/>
            <p:cNvSpPr/>
            <p:nvPr/>
          </p:nvSpPr>
          <p:spPr>
            <a:xfrm>
              <a:off x="6705720" y="4349880"/>
              <a:ext cx="285480" cy="284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5" name="Freeform 48"/>
            <p:cNvSpPr/>
            <p:nvPr/>
          </p:nvSpPr>
          <p:spPr>
            <a:xfrm>
              <a:off x="6707880" y="4504320"/>
              <a:ext cx="283320" cy="1422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596" name="Group 49"/>
          <p:cNvGrpSpPr/>
          <p:nvPr/>
        </p:nvGrpSpPr>
        <p:grpSpPr>
          <a:xfrm>
            <a:off x="4267080" y="2595600"/>
            <a:ext cx="285840" cy="298440"/>
            <a:chOff x="4267080" y="2595600"/>
            <a:chExt cx="285840" cy="298440"/>
          </a:xfrm>
        </p:grpSpPr>
        <p:sp>
          <p:nvSpPr>
            <p:cNvPr id="597" name="Oval 50"/>
            <p:cNvSpPr/>
            <p:nvPr/>
          </p:nvSpPr>
          <p:spPr>
            <a:xfrm>
              <a:off x="4267080" y="2595600"/>
              <a:ext cx="285840" cy="286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8" name="Freeform 51"/>
            <p:cNvSpPr/>
            <p:nvPr/>
          </p:nvSpPr>
          <p:spPr>
            <a:xfrm>
              <a:off x="4269240" y="2750760"/>
              <a:ext cx="283680" cy="14328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599" name="Footer Placeholder 53"/>
          <p:cNvSpPr/>
          <p:nvPr/>
        </p:nvSpPr>
        <p:spPr>
          <a:xfrm>
            <a:off x="60948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7632720" y="1752480"/>
            <a:ext cx="312408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6014880" y="1676520"/>
            <a:ext cx="351000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Slide Number Placeholder 5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24EF-5A58-40C4-94E5-DEFC37C0493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alk Outli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04" name="Content Placeholder 5" descr=""/>
          <p:cNvPicPr/>
          <p:nvPr/>
        </p:nvPicPr>
        <p:blipFill>
          <a:blip r:embed="rId1"/>
          <a:stretch/>
        </p:blipFill>
        <p:spPr>
          <a:xfrm>
            <a:off x="612720" y="1600200"/>
            <a:ext cx="8153280" cy="449568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11"/>
          <p:cNvGrpSpPr/>
          <p:nvPr/>
        </p:nvGrpSpPr>
        <p:grpSpPr>
          <a:xfrm>
            <a:off x="196920" y="1933560"/>
            <a:ext cx="581400" cy="3585600"/>
            <a:chOff x="196920" y="1933560"/>
            <a:chExt cx="581400" cy="3585600"/>
          </a:xfrm>
        </p:grpSpPr>
        <p:sp>
          <p:nvSpPr>
            <p:cNvPr id="606" name="TextBox 6"/>
            <p:cNvSpPr/>
            <p:nvPr/>
          </p:nvSpPr>
          <p:spPr>
            <a:xfrm rot="16200000">
              <a:off x="-1067760" y="3672720"/>
              <a:ext cx="311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w Cen MT"/>
                </a:rPr>
                <a:t>PERFORMANCE</a:t>
              </a:r>
              <a:endParaRPr b="0" lang="en-US" sz="3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07" name="Up Arrow 8"/>
            <p:cNvSpPr/>
            <p:nvPr/>
          </p:nvSpPr>
          <p:spPr>
            <a:xfrm>
              <a:off x="336960" y="1933560"/>
              <a:ext cx="305280" cy="533160"/>
            </a:xfrm>
            <a:prstGeom prst="upArrow">
              <a:avLst>
                <a:gd name="adj1" fmla="val 50000"/>
                <a:gd name="adj2" fmla="val 49895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08" name="Group 10"/>
          <p:cNvGrpSpPr/>
          <p:nvPr/>
        </p:nvGrpSpPr>
        <p:grpSpPr>
          <a:xfrm>
            <a:off x="3072240" y="6076800"/>
            <a:ext cx="3077280" cy="581400"/>
            <a:chOff x="3072240" y="6076800"/>
            <a:chExt cx="3077280" cy="581400"/>
          </a:xfrm>
        </p:grpSpPr>
        <p:sp>
          <p:nvSpPr>
            <p:cNvPr id="609" name="TextBox 7"/>
            <p:cNvSpPr/>
            <p:nvPr/>
          </p:nvSpPr>
          <p:spPr>
            <a:xfrm>
              <a:off x="3072240" y="6076800"/>
              <a:ext cx="264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w Cen MT"/>
                </a:rPr>
                <a:t>COMPLEXITY</a:t>
              </a:r>
              <a:endParaRPr b="0" lang="en-US" sz="3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0" name="Up Arrow 9"/>
            <p:cNvSpPr/>
            <p:nvPr/>
          </p:nvSpPr>
          <p:spPr>
            <a:xfrm rot="5400000">
              <a:off x="5730480" y="6102000"/>
              <a:ext cx="304560" cy="533160"/>
            </a:xfrm>
            <a:prstGeom prst="upArrow">
              <a:avLst>
                <a:gd name="adj1" fmla="val 50000"/>
                <a:gd name="adj2" fmla="val 50013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611" name="AutoShape 4"/>
          <p:cNvSpPr/>
          <p:nvPr/>
        </p:nvSpPr>
        <p:spPr>
          <a:xfrm>
            <a:off x="5562720" y="0"/>
            <a:ext cx="185400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12" name="Group 46"/>
          <p:cNvGrpSpPr/>
          <p:nvPr/>
        </p:nvGrpSpPr>
        <p:grpSpPr>
          <a:xfrm>
            <a:off x="1161360" y="4494600"/>
            <a:ext cx="909720" cy="951120"/>
            <a:chOff x="1161360" y="4494600"/>
            <a:chExt cx="909720" cy="951120"/>
          </a:xfrm>
        </p:grpSpPr>
        <p:sp>
          <p:nvSpPr>
            <p:cNvPr id="613" name="Freeform 6"/>
            <p:cNvSpPr/>
            <p:nvPr/>
          </p:nvSpPr>
          <p:spPr>
            <a:xfrm rot="1884600">
              <a:off x="1907280" y="4662000"/>
              <a:ext cx="138600" cy="1342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4" name="Freeform 8"/>
            <p:cNvSpPr/>
            <p:nvPr/>
          </p:nvSpPr>
          <p:spPr>
            <a:xfrm rot="1884600">
              <a:off x="1847160" y="4579560"/>
              <a:ext cx="69120" cy="846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5" name="Freeform 10"/>
            <p:cNvSpPr/>
            <p:nvPr/>
          </p:nvSpPr>
          <p:spPr>
            <a:xfrm rot="1884600">
              <a:off x="1759320" y="4530960"/>
              <a:ext cx="60480" cy="846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 rot="1884600">
              <a:off x="1672200" y="4502520"/>
              <a:ext cx="51840" cy="759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7" name="Freeform 14"/>
            <p:cNvSpPr/>
            <p:nvPr/>
          </p:nvSpPr>
          <p:spPr>
            <a:xfrm rot="1884600">
              <a:off x="1552320" y="4524120"/>
              <a:ext cx="66960" cy="62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 rot="1884600">
              <a:off x="1337760" y="4600440"/>
              <a:ext cx="416520" cy="79452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9" name="Freeform 18"/>
            <p:cNvSpPr/>
            <p:nvPr/>
          </p:nvSpPr>
          <p:spPr>
            <a:xfrm rot="1884600">
              <a:off x="1928880" y="4682520"/>
              <a:ext cx="97560" cy="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0" name="Freeform 20"/>
            <p:cNvSpPr/>
            <p:nvPr/>
          </p:nvSpPr>
          <p:spPr>
            <a:xfrm rot="1884600">
              <a:off x="1366920" y="4642200"/>
              <a:ext cx="362160" cy="69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1" name="Freeform 22"/>
            <p:cNvSpPr/>
            <p:nvPr/>
          </p:nvSpPr>
          <p:spPr>
            <a:xfrm rot="1884600">
              <a:off x="1865160" y="4596480"/>
              <a:ext cx="3888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2" name="Freeform 24"/>
            <p:cNvSpPr/>
            <p:nvPr/>
          </p:nvSpPr>
          <p:spPr>
            <a:xfrm rot="1884600">
              <a:off x="1772280" y="4555800"/>
              <a:ext cx="2808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3" name="Freeform 26"/>
            <p:cNvSpPr/>
            <p:nvPr/>
          </p:nvSpPr>
          <p:spPr>
            <a:xfrm rot="1884600">
              <a:off x="1680120" y="4524120"/>
              <a:ext cx="2592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4" name="Freeform 28"/>
            <p:cNvSpPr/>
            <p:nvPr/>
          </p:nvSpPr>
          <p:spPr>
            <a:xfrm rot="1884600">
              <a:off x="1568520" y="4541760"/>
              <a:ext cx="3240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5" name="Freeform 30"/>
            <p:cNvSpPr/>
            <p:nvPr/>
          </p:nvSpPr>
          <p:spPr>
            <a:xfrm rot="1884600">
              <a:off x="1428840" y="4920840"/>
              <a:ext cx="173520" cy="4687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6" name="Freeform 32"/>
            <p:cNvSpPr/>
            <p:nvPr/>
          </p:nvSpPr>
          <p:spPr>
            <a:xfrm rot="1884600">
              <a:off x="1578240" y="4671000"/>
              <a:ext cx="236520" cy="123480"/>
            </a:xfrm>
            <a:prstGeom prst="pie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7" name="Freeform 34"/>
            <p:cNvSpPr/>
            <p:nvPr/>
          </p:nvSpPr>
          <p:spPr>
            <a:xfrm rot="1884600">
              <a:off x="1508400" y="4717440"/>
              <a:ext cx="247320" cy="503280"/>
            </a:xfrm>
            <a:prstGeom prst="pie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28" name="Group 45"/>
          <p:cNvGrpSpPr/>
          <p:nvPr/>
        </p:nvGrpSpPr>
        <p:grpSpPr>
          <a:xfrm>
            <a:off x="2352240" y="4428720"/>
            <a:ext cx="810360" cy="1011240"/>
            <a:chOff x="2352240" y="4428720"/>
            <a:chExt cx="810360" cy="1011240"/>
          </a:xfrm>
        </p:grpSpPr>
        <p:sp>
          <p:nvSpPr>
            <p:cNvPr id="629" name="Freeform 7"/>
            <p:cNvSpPr/>
            <p:nvPr/>
          </p:nvSpPr>
          <p:spPr>
            <a:xfrm rot="1797000">
              <a:off x="2817720" y="4452840"/>
              <a:ext cx="132840" cy="134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0" name="Freeform 9"/>
            <p:cNvSpPr/>
            <p:nvPr/>
          </p:nvSpPr>
          <p:spPr>
            <a:xfrm rot="1797000">
              <a:off x="2972520" y="4557960"/>
              <a:ext cx="71640" cy="8352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1" name="Freeform 11"/>
            <p:cNvSpPr/>
            <p:nvPr/>
          </p:nvSpPr>
          <p:spPr>
            <a:xfrm rot="1797000">
              <a:off x="3035160" y="4640040"/>
              <a:ext cx="69480" cy="774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2" name="Freeform 13"/>
            <p:cNvSpPr/>
            <p:nvPr/>
          </p:nvSpPr>
          <p:spPr>
            <a:xfrm rot="1797000">
              <a:off x="3082680" y="4727880"/>
              <a:ext cx="59040" cy="712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3" name="Freeform 15"/>
            <p:cNvSpPr/>
            <p:nvPr/>
          </p:nvSpPr>
          <p:spPr>
            <a:xfrm rot="1797000">
              <a:off x="3080880" y="4844880"/>
              <a:ext cx="71640" cy="590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4" name="Freeform 17"/>
            <p:cNvSpPr/>
            <p:nvPr/>
          </p:nvSpPr>
          <p:spPr>
            <a:xfrm rot="1797000">
              <a:off x="2516400" y="4610160"/>
              <a:ext cx="432000" cy="773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5" name="Freeform 19"/>
            <p:cNvSpPr/>
            <p:nvPr/>
          </p:nvSpPr>
          <p:spPr>
            <a:xfrm rot="1797000">
              <a:off x="2838960" y="4474800"/>
              <a:ext cx="96120" cy="9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6" name="Freeform 21"/>
            <p:cNvSpPr/>
            <p:nvPr/>
          </p:nvSpPr>
          <p:spPr>
            <a:xfrm rot="1797000">
              <a:off x="2567880" y="4650840"/>
              <a:ext cx="356040" cy="67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7" name="Freeform 23"/>
            <p:cNvSpPr/>
            <p:nvPr/>
          </p:nvSpPr>
          <p:spPr>
            <a:xfrm rot="1797000">
              <a:off x="2985120" y="4571280"/>
              <a:ext cx="45000" cy="4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8" name="Freeform 25"/>
            <p:cNvSpPr/>
            <p:nvPr/>
          </p:nvSpPr>
          <p:spPr>
            <a:xfrm rot="1797000">
              <a:off x="3049200" y="4662360"/>
              <a:ext cx="3060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9" name="Freeform 27"/>
            <p:cNvSpPr/>
            <p:nvPr/>
          </p:nvSpPr>
          <p:spPr>
            <a:xfrm rot="1797000">
              <a:off x="3097080" y="4748040"/>
              <a:ext cx="284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0" name="Freeform 29"/>
            <p:cNvSpPr/>
            <p:nvPr/>
          </p:nvSpPr>
          <p:spPr>
            <a:xfrm rot="1797000">
              <a:off x="3095280" y="4854600"/>
              <a:ext cx="3276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1" name="Freeform 31"/>
            <p:cNvSpPr/>
            <p:nvPr/>
          </p:nvSpPr>
          <p:spPr>
            <a:xfrm rot="1797000">
              <a:off x="2483280" y="4782960"/>
              <a:ext cx="137160" cy="4878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2" name="Freeform 33"/>
            <p:cNvSpPr/>
            <p:nvPr/>
          </p:nvSpPr>
          <p:spPr>
            <a:xfrm rot="1797000">
              <a:off x="2836440" y="4709880"/>
              <a:ext cx="210600" cy="140760"/>
            </a:xfrm>
            <a:prstGeom prst="pie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3" name="Freeform 35"/>
            <p:cNvSpPr/>
            <p:nvPr/>
          </p:nvSpPr>
          <p:spPr>
            <a:xfrm rot="1797000">
              <a:off x="2632680" y="4635720"/>
              <a:ext cx="169920" cy="510120"/>
            </a:xfrm>
            <a:prstGeom prst="pie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44" name="Group 47"/>
          <p:cNvGrpSpPr/>
          <p:nvPr/>
        </p:nvGrpSpPr>
        <p:grpSpPr>
          <a:xfrm>
            <a:off x="3294000" y="3281040"/>
            <a:ext cx="944280" cy="933840"/>
            <a:chOff x="3294000" y="3281040"/>
            <a:chExt cx="944280" cy="933840"/>
          </a:xfrm>
        </p:grpSpPr>
        <p:sp>
          <p:nvSpPr>
            <p:cNvPr id="645" name="Freeform 6"/>
            <p:cNvSpPr/>
            <p:nvPr/>
          </p:nvSpPr>
          <p:spPr>
            <a:xfrm rot="2136600">
              <a:off x="4073400" y="3468600"/>
              <a:ext cx="138600" cy="1342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6" name="Freeform 8"/>
            <p:cNvSpPr/>
            <p:nvPr/>
          </p:nvSpPr>
          <p:spPr>
            <a:xfrm rot="2136600">
              <a:off x="4021200" y="3379680"/>
              <a:ext cx="69120" cy="842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7" name="Freeform 10"/>
            <p:cNvSpPr/>
            <p:nvPr/>
          </p:nvSpPr>
          <p:spPr>
            <a:xfrm rot="2136600">
              <a:off x="3937320" y="3324240"/>
              <a:ext cx="60480" cy="842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8" name="Freeform 12"/>
            <p:cNvSpPr/>
            <p:nvPr/>
          </p:nvSpPr>
          <p:spPr>
            <a:xfrm rot="2136600">
              <a:off x="3852720" y="3288960"/>
              <a:ext cx="51840" cy="756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9" name="Freeform 14"/>
            <p:cNvSpPr/>
            <p:nvPr/>
          </p:nvSpPr>
          <p:spPr>
            <a:xfrm rot="2136600">
              <a:off x="3732120" y="3301920"/>
              <a:ext cx="66960" cy="62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0" name="Freeform 16"/>
            <p:cNvSpPr/>
            <p:nvPr/>
          </p:nvSpPr>
          <p:spPr>
            <a:xfrm rot="2136600">
              <a:off x="3485520" y="3374640"/>
              <a:ext cx="416520" cy="79272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1" name="Freeform 18"/>
            <p:cNvSpPr/>
            <p:nvPr/>
          </p:nvSpPr>
          <p:spPr>
            <a:xfrm rot="2136600">
              <a:off x="4094640" y="3488760"/>
              <a:ext cx="97560" cy="9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2" name="Freeform 20"/>
            <p:cNvSpPr/>
            <p:nvPr/>
          </p:nvSpPr>
          <p:spPr>
            <a:xfrm rot="2136600">
              <a:off x="3515760" y="3416400"/>
              <a:ext cx="362160" cy="69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3" name="Freeform 22"/>
            <p:cNvSpPr/>
            <p:nvPr/>
          </p:nvSpPr>
          <p:spPr>
            <a:xfrm rot="2136600">
              <a:off x="4038840" y="3396240"/>
              <a:ext cx="3888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4" name="Freeform 24"/>
            <p:cNvSpPr/>
            <p:nvPr/>
          </p:nvSpPr>
          <p:spPr>
            <a:xfrm rot="2136600">
              <a:off x="3949920" y="3348720"/>
              <a:ext cx="2808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5" name="Freeform 26"/>
            <p:cNvSpPr/>
            <p:nvPr/>
          </p:nvSpPr>
          <p:spPr>
            <a:xfrm rot="2136600">
              <a:off x="3860280" y="3310200"/>
              <a:ext cx="2592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6" name="Freeform 28"/>
            <p:cNvSpPr/>
            <p:nvPr/>
          </p:nvSpPr>
          <p:spPr>
            <a:xfrm rot="2136600">
              <a:off x="3747960" y="3319920"/>
              <a:ext cx="3240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7" name="Freeform 30"/>
            <p:cNvSpPr/>
            <p:nvPr/>
          </p:nvSpPr>
          <p:spPr>
            <a:xfrm rot="2136600">
              <a:off x="3565800" y="3691440"/>
              <a:ext cx="173520" cy="4680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8" name="Freeform 32"/>
            <p:cNvSpPr/>
            <p:nvPr/>
          </p:nvSpPr>
          <p:spPr>
            <a:xfrm rot="2136600">
              <a:off x="3744720" y="3456360"/>
              <a:ext cx="236520" cy="123480"/>
            </a:xfrm>
            <a:prstGeom prst="pie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59" name="Freeform 34"/>
            <p:cNvSpPr/>
            <p:nvPr/>
          </p:nvSpPr>
          <p:spPr>
            <a:xfrm rot="2136600">
              <a:off x="3658320" y="3497400"/>
              <a:ext cx="247320" cy="502560"/>
            </a:xfrm>
            <a:prstGeom prst="pie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60" name="Group 63"/>
          <p:cNvGrpSpPr/>
          <p:nvPr/>
        </p:nvGrpSpPr>
        <p:grpSpPr>
          <a:xfrm>
            <a:off x="4343040" y="3526920"/>
            <a:ext cx="810360" cy="1011600"/>
            <a:chOff x="4343040" y="3526920"/>
            <a:chExt cx="810360" cy="1011600"/>
          </a:xfrm>
        </p:grpSpPr>
        <p:sp>
          <p:nvSpPr>
            <p:cNvPr id="661" name="Freeform 7"/>
            <p:cNvSpPr/>
            <p:nvPr/>
          </p:nvSpPr>
          <p:spPr>
            <a:xfrm rot="1797000">
              <a:off x="4808520" y="3551040"/>
              <a:ext cx="132840" cy="134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62" name="Freeform 9"/>
            <p:cNvSpPr/>
            <p:nvPr/>
          </p:nvSpPr>
          <p:spPr>
            <a:xfrm rot="1797000">
              <a:off x="4963320" y="3656520"/>
              <a:ext cx="71640" cy="8352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63" name="Freeform 11"/>
            <p:cNvSpPr/>
            <p:nvPr/>
          </p:nvSpPr>
          <p:spPr>
            <a:xfrm rot="1797000">
              <a:off x="5025960" y="3738600"/>
              <a:ext cx="69480" cy="774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64" name="Freeform 13"/>
            <p:cNvSpPr/>
            <p:nvPr/>
          </p:nvSpPr>
          <p:spPr>
            <a:xfrm rot="1797000">
              <a:off x="5073840" y="3826080"/>
              <a:ext cx="59040" cy="712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65" name="Freeform 15"/>
            <p:cNvSpPr/>
            <p:nvPr/>
          </p:nvSpPr>
          <p:spPr>
            <a:xfrm rot="1797000">
              <a:off x="5071680" y="3943080"/>
              <a:ext cx="71640" cy="590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66" name="Freeform 17"/>
            <p:cNvSpPr/>
            <p:nvPr/>
          </p:nvSpPr>
          <p:spPr>
            <a:xfrm rot="1797000">
              <a:off x="4507200" y="3708000"/>
              <a:ext cx="432000" cy="7740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67" name="Freeform 19"/>
            <p:cNvSpPr/>
            <p:nvPr/>
          </p:nvSpPr>
          <p:spPr>
            <a:xfrm rot="1797000">
              <a:off x="4830120" y="3573000"/>
              <a:ext cx="96120" cy="9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68" name="Freeform 21"/>
            <p:cNvSpPr/>
            <p:nvPr/>
          </p:nvSpPr>
          <p:spPr>
            <a:xfrm rot="1797000">
              <a:off x="4559040" y="3749040"/>
              <a:ext cx="356040" cy="68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69" name="Freeform 23"/>
            <p:cNvSpPr/>
            <p:nvPr/>
          </p:nvSpPr>
          <p:spPr>
            <a:xfrm rot="1797000">
              <a:off x="4975920" y="3669480"/>
              <a:ext cx="45000" cy="4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70" name="Freeform 25"/>
            <p:cNvSpPr/>
            <p:nvPr/>
          </p:nvSpPr>
          <p:spPr>
            <a:xfrm rot="1797000">
              <a:off x="5040000" y="3760560"/>
              <a:ext cx="3060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71" name="Freeform 27"/>
            <p:cNvSpPr/>
            <p:nvPr/>
          </p:nvSpPr>
          <p:spPr>
            <a:xfrm rot="1797000">
              <a:off x="5087880" y="3846600"/>
              <a:ext cx="284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72" name="Freeform 29"/>
            <p:cNvSpPr/>
            <p:nvPr/>
          </p:nvSpPr>
          <p:spPr>
            <a:xfrm rot="1797000">
              <a:off x="5086080" y="3952800"/>
              <a:ext cx="3276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73" name="Freeform 31"/>
            <p:cNvSpPr/>
            <p:nvPr/>
          </p:nvSpPr>
          <p:spPr>
            <a:xfrm rot="1797000">
              <a:off x="4474080" y="3881520"/>
              <a:ext cx="137160" cy="4878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74" name="Freeform 33"/>
            <p:cNvSpPr/>
            <p:nvPr/>
          </p:nvSpPr>
          <p:spPr>
            <a:xfrm rot="1797000">
              <a:off x="4827240" y="3808080"/>
              <a:ext cx="210600" cy="140760"/>
            </a:xfrm>
            <a:prstGeom prst="pie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75" name="Freeform 35"/>
            <p:cNvSpPr/>
            <p:nvPr/>
          </p:nvSpPr>
          <p:spPr>
            <a:xfrm rot="1797000">
              <a:off x="4623840" y="3734280"/>
              <a:ext cx="169920" cy="510480"/>
            </a:xfrm>
            <a:prstGeom prst="pie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76" name="Group 79"/>
          <p:cNvGrpSpPr/>
          <p:nvPr/>
        </p:nvGrpSpPr>
        <p:grpSpPr>
          <a:xfrm>
            <a:off x="5046480" y="2214360"/>
            <a:ext cx="944280" cy="933840"/>
            <a:chOff x="5046480" y="2214360"/>
            <a:chExt cx="944280" cy="933840"/>
          </a:xfrm>
        </p:grpSpPr>
        <p:sp>
          <p:nvSpPr>
            <p:cNvPr id="677" name="Freeform 6"/>
            <p:cNvSpPr/>
            <p:nvPr/>
          </p:nvSpPr>
          <p:spPr>
            <a:xfrm rot="2136600">
              <a:off x="5825880" y="2401920"/>
              <a:ext cx="138600" cy="1342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78" name="Freeform 8"/>
            <p:cNvSpPr/>
            <p:nvPr/>
          </p:nvSpPr>
          <p:spPr>
            <a:xfrm rot="2136600">
              <a:off x="5773680" y="2313000"/>
              <a:ext cx="69120" cy="842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79" name="Freeform 10"/>
            <p:cNvSpPr/>
            <p:nvPr/>
          </p:nvSpPr>
          <p:spPr>
            <a:xfrm rot="2136600">
              <a:off x="5689800" y="2257560"/>
              <a:ext cx="60480" cy="842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 rot="2136600">
              <a:off x="5605200" y="2222280"/>
              <a:ext cx="51840" cy="756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81" name="Freeform 14"/>
            <p:cNvSpPr/>
            <p:nvPr/>
          </p:nvSpPr>
          <p:spPr>
            <a:xfrm rot="2136600">
              <a:off x="5484600" y="2235240"/>
              <a:ext cx="66960" cy="62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 rot="2136600">
              <a:off x="5238000" y="2307960"/>
              <a:ext cx="416520" cy="79272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83" name="Freeform 18"/>
            <p:cNvSpPr/>
            <p:nvPr/>
          </p:nvSpPr>
          <p:spPr>
            <a:xfrm rot="2136600">
              <a:off x="5847120" y="2422080"/>
              <a:ext cx="97560" cy="9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84" name="Freeform 20"/>
            <p:cNvSpPr/>
            <p:nvPr/>
          </p:nvSpPr>
          <p:spPr>
            <a:xfrm rot="2136600">
              <a:off x="5268240" y="2349720"/>
              <a:ext cx="362160" cy="69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85" name="Freeform 22"/>
            <p:cNvSpPr/>
            <p:nvPr/>
          </p:nvSpPr>
          <p:spPr>
            <a:xfrm rot="2136600">
              <a:off x="5791320" y="2329560"/>
              <a:ext cx="3888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86" name="Freeform 24"/>
            <p:cNvSpPr/>
            <p:nvPr/>
          </p:nvSpPr>
          <p:spPr>
            <a:xfrm rot="2136600">
              <a:off x="5702400" y="2282040"/>
              <a:ext cx="2808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87" name="Freeform 26"/>
            <p:cNvSpPr/>
            <p:nvPr/>
          </p:nvSpPr>
          <p:spPr>
            <a:xfrm rot="2136600">
              <a:off x="5612760" y="2243520"/>
              <a:ext cx="2592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88" name="Freeform 28"/>
            <p:cNvSpPr/>
            <p:nvPr/>
          </p:nvSpPr>
          <p:spPr>
            <a:xfrm rot="2136600">
              <a:off x="5500440" y="2253240"/>
              <a:ext cx="3240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89" name="Freeform 30"/>
            <p:cNvSpPr/>
            <p:nvPr/>
          </p:nvSpPr>
          <p:spPr>
            <a:xfrm rot="2136600">
              <a:off x="5318280" y="2624760"/>
              <a:ext cx="173520" cy="4680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0" name="Freeform 32"/>
            <p:cNvSpPr/>
            <p:nvPr/>
          </p:nvSpPr>
          <p:spPr>
            <a:xfrm rot="2136600">
              <a:off x="5497200" y="2389680"/>
              <a:ext cx="236520" cy="123480"/>
            </a:xfrm>
            <a:prstGeom prst="pie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1" name="Freeform 34"/>
            <p:cNvSpPr/>
            <p:nvPr/>
          </p:nvSpPr>
          <p:spPr>
            <a:xfrm rot="2136600">
              <a:off x="5410800" y="2430720"/>
              <a:ext cx="247320" cy="502560"/>
            </a:xfrm>
            <a:prstGeom prst="pie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92" name="Group 95"/>
          <p:cNvGrpSpPr/>
          <p:nvPr/>
        </p:nvGrpSpPr>
        <p:grpSpPr>
          <a:xfrm>
            <a:off x="6247440" y="2157120"/>
            <a:ext cx="837360" cy="1000440"/>
            <a:chOff x="6247440" y="2157120"/>
            <a:chExt cx="837360" cy="1000440"/>
          </a:xfrm>
        </p:grpSpPr>
        <p:sp>
          <p:nvSpPr>
            <p:cNvPr id="693" name="Freeform 7"/>
            <p:cNvSpPr/>
            <p:nvPr/>
          </p:nvSpPr>
          <p:spPr>
            <a:xfrm rot="2045400">
              <a:off x="6763320" y="2182680"/>
              <a:ext cx="132840" cy="134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4" name="Freeform 9"/>
            <p:cNvSpPr/>
            <p:nvPr/>
          </p:nvSpPr>
          <p:spPr>
            <a:xfrm rot="2045400">
              <a:off x="6912000" y="2296440"/>
              <a:ext cx="71640" cy="8352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5" name="Freeform 11"/>
            <p:cNvSpPr/>
            <p:nvPr/>
          </p:nvSpPr>
          <p:spPr>
            <a:xfrm rot="2045400">
              <a:off x="6969240" y="2382840"/>
              <a:ext cx="69480" cy="774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6" name="Freeform 13"/>
            <p:cNvSpPr/>
            <p:nvPr/>
          </p:nvSpPr>
          <p:spPr>
            <a:xfrm rot="2045400">
              <a:off x="7010640" y="2473200"/>
              <a:ext cx="59040" cy="712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7" name="Freeform 15"/>
            <p:cNvSpPr/>
            <p:nvPr/>
          </p:nvSpPr>
          <p:spPr>
            <a:xfrm rot="2045400">
              <a:off x="7000200" y="2590920"/>
              <a:ext cx="71640" cy="590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8" name="Freeform 17"/>
            <p:cNvSpPr/>
            <p:nvPr/>
          </p:nvSpPr>
          <p:spPr>
            <a:xfrm rot="2045400">
              <a:off x="6427440" y="2327760"/>
              <a:ext cx="432000" cy="7750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9" name="Freeform 19"/>
            <p:cNvSpPr/>
            <p:nvPr/>
          </p:nvSpPr>
          <p:spPr>
            <a:xfrm rot="2045400">
              <a:off x="6784920" y="2204640"/>
              <a:ext cx="96120" cy="9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 rot="2045400">
              <a:off x="6479640" y="2369520"/>
              <a:ext cx="356040" cy="68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1" name="Freeform 23"/>
            <p:cNvSpPr/>
            <p:nvPr/>
          </p:nvSpPr>
          <p:spPr>
            <a:xfrm rot="2045400">
              <a:off x="6924960" y="2309400"/>
              <a:ext cx="45000" cy="4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2" name="Freeform 25"/>
            <p:cNvSpPr/>
            <p:nvPr/>
          </p:nvSpPr>
          <p:spPr>
            <a:xfrm rot="2045400">
              <a:off x="6982920" y="2404800"/>
              <a:ext cx="3060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3" name="Freeform 27"/>
            <p:cNvSpPr/>
            <p:nvPr/>
          </p:nvSpPr>
          <p:spPr>
            <a:xfrm rot="2045400">
              <a:off x="7024320" y="2493720"/>
              <a:ext cx="284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4" name="Freeform 29"/>
            <p:cNvSpPr/>
            <p:nvPr/>
          </p:nvSpPr>
          <p:spPr>
            <a:xfrm rot="2045400">
              <a:off x="7014600" y="2599920"/>
              <a:ext cx="3276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5" name="Freeform 31"/>
            <p:cNvSpPr/>
            <p:nvPr/>
          </p:nvSpPr>
          <p:spPr>
            <a:xfrm rot="2045400">
              <a:off x="6392520" y="2488320"/>
              <a:ext cx="137160" cy="4885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6" name="Freeform 33"/>
            <p:cNvSpPr/>
            <p:nvPr/>
          </p:nvSpPr>
          <p:spPr>
            <a:xfrm rot="2045400">
              <a:off x="6762600" y="2443680"/>
              <a:ext cx="210600" cy="141120"/>
            </a:xfrm>
            <a:prstGeom prst="pie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7" name="Freeform 35"/>
            <p:cNvSpPr/>
            <p:nvPr/>
          </p:nvSpPr>
          <p:spPr>
            <a:xfrm rot="2045400">
              <a:off x="6552000" y="2352960"/>
              <a:ext cx="169920" cy="511200"/>
            </a:xfrm>
            <a:prstGeom prst="pie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708" name="Group 111"/>
          <p:cNvGrpSpPr/>
          <p:nvPr/>
        </p:nvGrpSpPr>
        <p:grpSpPr>
          <a:xfrm>
            <a:off x="6875280" y="995040"/>
            <a:ext cx="944280" cy="933840"/>
            <a:chOff x="6875280" y="995040"/>
            <a:chExt cx="944280" cy="933840"/>
          </a:xfrm>
        </p:grpSpPr>
        <p:sp>
          <p:nvSpPr>
            <p:cNvPr id="709" name="Freeform 6"/>
            <p:cNvSpPr/>
            <p:nvPr/>
          </p:nvSpPr>
          <p:spPr>
            <a:xfrm rot="2136600">
              <a:off x="7654680" y="1182600"/>
              <a:ext cx="138600" cy="1342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0" name="Freeform 8"/>
            <p:cNvSpPr/>
            <p:nvPr/>
          </p:nvSpPr>
          <p:spPr>
            <a:xfrm rot="2136600">
              <a:off x="7602480" y="1093680"/>
              <a:ext cx="69120" cy="842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1" name="Freeform 10"/>
            <p:cNvSpPr/>
            <p:nvPr/>
          </p:nvSpPr>
          <p:spPr>
            <a:xfrm rot="2136600">
              <a:off x="7518600" y="1038240"/>
              <a:ext cx="60480" cy="842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2" name="Freeform 12"/>
            <p:cNvSpPr/>
            <p:nvPr/>
          </p:nvSpPr>
          <p:spPr>
            <a:xfrm rot="2136600">
              <a:off x="7434000" y="1002960"/>
              <a:ext cx="51840" cy="756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3" name="Freeform 14"/>
            <p:cNvSpPr/>
            <p:nvPr/>
          </p:nvSpPr>
          <p:spPr>
            <a:xfrm rot="2136600">
              <a:off x="7313400" y="1015920"/>
              <a:ext cx="66960" cy="62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4" name="Freeform 16"/>
            <p:cNvSpPr/>
            <p:nvPr/>
          </p:nvSpPr>
          <p:spPr>
            <a:xfrm rot="2136600">
              <a:off x="7066800" y="1088640"/>
              <a:ext cx="416520" cy="79272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5" name="Freeform 18"/>
            <p:cNvSpPr/>
            <p:nvPr/>
          </p:nvSpPr>
          <p:spPr>
            <a:xfrm rot="2136600">
              <a:off x="7675920" y="1202760"/>
              <a:ext cx="97560" cy="9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6" name="Freeform 20"/>
            <p:cNvSpPr/>
            <p:nvPr/>
          </p:nvSpPr>
          <p:spPr>
            <a:xfrm rot="2136600">
              <a:off x="7097040" y="1130400"/>
              <a:ext cx="362160" cy="69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7" name="Freeform 22"/>
            <p:cNvSpPr/>
            <p:nvPr/>
          </p:nvSpPr>
          <p:spPr>
            <a:xfrm rot="2136600">
              <a:off x="7620120" y="1110240"/>
              <a:ext cx="3888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8" name="Freeform 24"/>
            <p:cNvSpPr/>
            <p:nvPr/>
          </p:nvSpPr>
          <p:spPr>
            <a:xfrm rot="2136600">
              <a:off x="7531200" y="1062720"/>
              <a:ext cx="2808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9" name="Freeform 26"/>
            <p:cNvSpPr/>
            <p:nvPr/>
          </p:nvSpPr>
          <p:spPr>
            <a:xfrm rot="2136600">
              <a:off x="7441560" y="1024200"/>
              <a:ext cx="2592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0" name="Freeform 28"/>
            <p:cNvSpPr/>
            <p:nvPr/>
          </p:nvSpPr>
          <p:spPr>
            <a:xfrm rot="2136600">
              <a:off x="7329240" y="1033920"/>
              <a:ext cx="3240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1" name="Freeform 30"/>
            <p:cNvSpPr/>
            <p:nvPr/>
          </p:nvSpPr>
          <p:spPr>
            <a:xfrm rot="2136600">
              <a:off x="7147080" y="1405440"/>
              <a:ext cx="173520" cy="4680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2" name="Freeform 32"/>
            <p:cNvSpPr/>
            <p:nvPr/>
          </p:nvSpPr>
          <p:spPr>
            <a:xfrm rot="2136600">
              <a:off x="7326000" y="1170360"/>
              <a:ext cx="236520" cy="123480"/>
            </a:xfrm>
            <a:prstGeom prst="pie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3" name="Freeform 34"/>
            <p:cNvSpPr/>
            <p:nvPr/>
          </p:nvSpPr>
          <p:spPr>
            <a:xfrm rot="2136600">
              <a:off x="7239600" y="1211400"/>
              <a:ext cx="247320" cy="502560"/>
            </a:xfrm>
            <a:prstGeom prst="pie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24" name="Footer Placeholder 128"/>
          <p:cNvSpPr/>
          <p:nvPr/>
        </p:nvSpPr>
        <p:spPr>
          <a:xfrm>
            <a:off x="60948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5" name="Slide Number Placeholder 12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AC68-468C-46E1-B8F2-76976F30454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26" name="Group 145"/>
          <p:cNvGrpSpPr/>
          <p:nvPr/>
        </p:nvGrpSpPr>
        <p:grpSpPr>
          <a:xfrm>
            <a:off x="7800120" y="1319040"/>
            <a:ext cx="837360" cy="1000440"/>
            <a:chOff x="7800120" y="1319040"/>
            <a:chExt cx="837360" cy="1000440"/>
          </a:xfrm>
        </p:grpSpPr>
        <p:sp>
          <p:nvSpPr>
            <p:cNvPr id="727" name="Freeform 7"/>
            <p:cNvSpPr/>
            <p:nvPr/>
          </p:nvSpPr>
          <p:spPr>
            <a:xfrm rot="2045400">
              <a:off x="8316000" y="1344600"/>
              <a:ext cx="132840" cy="134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8" name="Freeform 9"/>
            <p:cNvSpPr/>
            <p:nvPr/>
          </p:nvSpPr>
          <p:spPr>
            <a:xfrm rot="2045400">
              <a:off x="8464680" y="1458360"/>
              <a:ext cx="71640" cy="8352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9" name="Freeform 11"/>
            <p:cNvSpPr/>
            <p:nvPr/>
          </p:nvSpPr>
          <p:spPr>
            <a:xfrm rot="2045400">
              <a:off x="8521920" y="1544760"/>
              <a:ext cx="69480" cy="774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0" name="Freeform 13"/>
            <p:cNvSpPr/>
            <p:nvPr/>
          </p:nvSpPr>
          <p:spPr>
            <a:xfrm rot="2045400">
              <a:off x="8563320" y="1635120"/>
              <a:ext cx="59040" cy="712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1" name="Freeform 15"/>
            <p:cNvSpPr/>
            <p:nvPr/>
          </p:nvSpPr>
          <p:spPr>
            <a:xfrm rot="2045400">
              <a:off x="8552880" y="1752840"/>
              <a:ext cx="71640" cy="590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2" name="Freeform 17"/>
            <p:cNvSpPr/>
            <p:nvPr/>
          </p:nvSpPr>
          <p:spPr>
            <a:xfrm rot="2045400">
              <a:off x="7980120" y="1489680"/>
              <a:ext cx="432000" cy="7750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3" name="Freeform 19"/>
            <p:cNvSpPr/>
            <p:nvPr/>
          </p:nvSpPr>
          <p:spPr>
            <a:xfrm rot="2045400">
              <a:off x="8337600" y="1366560"/>
              <a:ext cx="96120" cy="9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4" name="Freeform 21"/>
            <p:cNvSpPr/>
            <p:nvPr/>
          </p:nvSpPr>
          <p:spPr>
            <a:xfrm rot="2045400">
              <a:off x="8032320" y="1531440"/>
              <a:ext cx="356040" cy="68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5" name="Freeform 23"/>
            <p:cNvSpPr/>
            <p:nvPr/>
          </p:nvSpPr>
          <p:spPr>
            <a:xfrm rot="2045400">
              <a:off x="8477640" y="1471320"/>
              <a:ext cx="45000" cy="4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6" name="Freeform 25"/>
            <p:cNvSpPr/>
            <p:nvPr/>
          </p:nvSpPr>
          <p:spPr>
            <a:xfrm rot="2045400">
              <a:off x="8535600" y="1566720"/>
              <a:ext cx="3060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7" name="Freeform 27"/>
            <p:cNvSpPr/>
            <p:nvPr/>
          </p:nvSpPr>
          <p:spPr>
            <a:xfrm rot="2045400">
              <a:off x="8577000" y="1655640"/>
              <a:ext cx="284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8" name="Freeform 29"/>
            <p:cNvSpPr/>
            <p:nvPr/>
          </p:nvSpPr>
          <p:spPr>
            <a:xfrm rot="2045400">
              <a:off x="8567280" y="1761840"/>
              <a:ext cx="3276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9" name="Freeform 31"/>
            <p:cNvSpPr/>
            <p:nvPr/>
          </p:nvSpPr>
          <p:spPr>
            <a:xfrm rot="2045400">
              <a:off x="7945200" y="1650240"/>
              <a:ext cx="137160" cy="4885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40" name="Freeform 33"/>
            <p:cNvSpPr/>
            <p:nvPr/>
          </p:nvSpPr>
          <p:spPr>
            <a:xfrm rot="2045400">
              <a:off x="8315280" y="1605600"/>
              <a:ext cx="210600" cy="141120"/>
            </a:xfrm>
            <a:prstGeom prst="pie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41" name="Freeform 35"/>
            <p:cNvSpPr/>
            <p:nvPr/>
          </p:nvSpPr>
          <p:spPr>
            <a:xfrm rot="2045400">
              <a:off x="8104680" y="1514880"/>
              <a:ext cx="169920" cy="511200"/>
            </a:xfrm>
            <a:prstGeom prst="pie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MP-Serial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3" name="Footer Placeholder 4"/>
          <p:cNvSpPr/>
          <p:nvPr/>
        </p:nvSpPr>
        <p:spPr>
          <a:xfrm>
            <a:off x="609480" y="6492960"/>
            <a:ext cx="769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MP: Deterministic Shared Memory Multiprocessing - ASPLOS 200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DBD8-B6A8-48CD-BB3A-22CF0BA97C1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45" name="ShockwaveFlash1"/>
          <p:cNvGraphicFramePr/>
          <p:nvPr/>
        </p:nvGraphicFramePr>
        <p:xfrm>
          <a:off x="698400" y="1512720"/>
          <a:ext cx="774720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512720"/>
                    <a:ext cx="7747200" cy="4826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7:44:01Z</dcterms:created>
  <dc:creator>Admin</dc:creator>
  <dc:description/>
  <dc:language>en-US</dc:language>
  <cp:lastModifiedBy>Admin</cp:lastModifiedBy>
  <dcterms:modified xsi:type="dcterms:W3CDTF">2009-03-15T18:50:50Z</dcterms:modified>
  <cp:revision>822</cp:revision>
  <dc:subject/>
  <dc:title>Slide 1</dc:title>
</cp:coreProperties>
</file>