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9C075A-54C9-4D5F-AAF8-A77598E8D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6a040a"/>
                </a:gs>
                <a:gs pos="50000">
                  <a:srgbClr val="d50915"/>
                </a:gs>
                <a:gs pos="100000">
                  <a:srgbClr val="6a040a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b100"/>
                </a:gs>
                <a:gs pos="50000">
                  <a:srgbClr val="fafd00"/>
                </a:gs>
                <a:gs pos="100000">
                  <a:srgbClr val="afb1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204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Switch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2560" y="3457440"/>
            <a:ext cx="7953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nathan M. Smith, David J. Farber,     Carl A. Gunter and Scott M. Net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87680" y="4481640"/>
            <a:ext cx="384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iversity of Pennsylva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79720" y="5491080"/>
            <a:ext cx="126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ll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2560" y="5038560"/>
            <a:ext cx="795348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. David Sincoskie and Mark E. S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2080" y="2160720"/>
            <a:ext cx="6764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2160" y="2119320"/>
            <a:ext cx="895824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Accelerating Network Evol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Hardware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ared Memory MP as “Swit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3124080"/>
            <a:ext cx="4952880" cy="2743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8769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35053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495288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5053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46280" y="36561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918480" y="36561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22240" y="50277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070760" y="5027760"/>
            <a:ext cx="884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OC3/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7339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889280" y="37321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51055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518148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7339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889280" y="51037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308640" y="37321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308640" y="518004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581280"/>
            <a:ext cx="0" cy="205740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581280"/>
            <a:ext cx="0" cy="205740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4572000"/>
            <a:ext cx="3657600" cy="0"/>
          </a:xfrm>
          <a:prstGeom prst="line">
            <a:avLst/>
          </a:prstGeom>
          <a:ln w="15228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7964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71808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5616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47056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5596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794040" y="403704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3248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47056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4952880"/>
            <a:ext cx="3048120" cy="60948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489480" y="5013360"/>
            <a:ext cx="196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512 MB E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4572000"/>
            <a:ext cx="0" cy="380880"/>
          </a:xfrm>
          <a:prstGeom prst="line">
            <a:avLst/>
          </a:prstGeom>
          <a:ln w="15228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Current Softwa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Brid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2666880"/>
            <a:ext cx="4191120" cy="2209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3962520"/>
            <a:ext cx="4190760" cy="0"/>
          </a:xfrm>
          <a:prstGeom prst="line">
            <a:avLst/>
          </a:prstGeom>
          <a:ln w="25560">
            <a:solidFill>
              <a:srgbClr val="474747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70360" y="4014720"/>
            <a:ext cx="8445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62720" y="426708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426708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727360" y="4341960"/>
            <a:ext cx="636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470560" y="4341960"/>
            <a:ext cx="793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Out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4876920"/>
            <a:ext cx="144792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4876920"/>
            <a:ext cx="144792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03480" y="50277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AN #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2160" y="50277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AN #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5181480"/>
            <a:ext cx="609480" cy="228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181480"/>
            <a:ext cx="609480" cy="228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727360" y="5127480"/>
            <a:ext cx="69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546880" y="5203800"/>
            <a:ext cx="69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52578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48120" y="48769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48769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533412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971800"/>
            <a:ext cx="2362320" cy="685800"/>
          </a:xfrm>
          <a:prstGeom prst="rect">
            <a:avLst/>
          </a:prstGeom>
          <a:solidFill>
            <a:srgbClr val="d49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60880" y="3046320"/>
            <a:ext cx="861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Ca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3124080"/>
            <a:ext cx="11430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3200400"/>
            <a:ext cx="11430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327560" y="324648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Loa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165640" y="280368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18280" y="272736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048120" y="3962520"/>
            <a:ext cx="533160" cy="30456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581280" y="3657600"/>
            <a:ext cx="228600" cy="30492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3657600"/>
            <a:ext cx="609480" cy="30492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3962520"/>
            <a:ext cx="0" cy="30456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809880" y="3505320"/>
            <a:ext cx="457200" cy="15228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3581280"/>
            <a:ext cx="76320" cy="7632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Lessons from Bri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6 Mbps vs. 32 Mbps for “C” equiva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cremental Loa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ffered Rep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f-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anning Tree Algs. (DEC &amp; IEE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tomatic STA Transition in &lt;0.1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://oilhead.cis.upenn.edu/~sa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Where to draw the lin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s the right O.S. feature subs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666880"/>
            <a:ext cx="4191120" cy="36576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70360" y="4014720"/>
            <a:ext cx="8445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571500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571500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267080"/>
            <a:ext cx="712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18280" y="5713560"/>
            <a:ext cx="861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Devi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27560" y="324648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18280" y="272736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51040" y="5837400"/>
            <a:ext cx="64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27360" y="5813280"/>
            <a:ext cx="727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651040" y="5713560"/>
            <a:ext cx="8049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De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62320" y="5638680"/>
            <a:ext cx="4190760" cy="0"/>
          </a:xfrm>
          <a:prstGeom prst="line">
            <a:avLst/>
          </a:prstGeom>
          <a:ln w="25560">
            <a:solidFill>
              <a:srgbClr val="d50915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3962520"/>
            <a:ext cx="0" cy="1676160"/>
          </a:xfrm>
          <a:prstGeom prst="line">
            <a:avLst/>
          </a:prstGeom>
          <a:ln w="38160">
            <a:solidFill>
              <a:srgbClr val="d5091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3962520"/>
            <a:ext cx="0" cy="1676160"/>
          </a:xfrm>
          <a:prstGeom prst="line">
            <a:avLst/>
          </a:prstGeom>
          <a:ln w="38160">
            <a:solidFill>
              <a:srgbClr val="d5091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84560" y="2894040"/>
            <a:ext cx="23637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2666880"/>
            <a:ext cx="4191120" cy="129528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184560" y="2894040"/>
            <a:ext cx="23637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Programming Langu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62320" y="3962520"/>
            <a:ext cx="4190760" cy="0"/>
          </a:xfrm>
          <a:prstGeom prst="line">
            <a:avLst/>
          </a:prstGeom>
          <a:ln w="25560">
            <a:solidFill>
              <a:srgbClr val="474747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Extremely Reliable Operating System (ERO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capability-based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T Mach Processor Res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grated Resourc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inimal IP router imple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ust-in-time Java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://www.cis.upenn.edu/~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pplications Unique to A.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mple Problem: Denial-of-Service At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ssive Solution: IP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rel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ens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c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with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ork..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ctive Defenses! (Offenses?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llcore “Survivable Active 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nn “Self-Checking Active 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35053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39625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740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38862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914400" y="35812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35812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38098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295280" y="38862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3505320"/>
            <a:ext cx="838440" cy="228960"/>
          </a:xfrm>
          <a:custGeom>
            <a:avLst/>
            <a:gdLst/>
            <a:ahLst/>
            <a:rect l="0" t="0" r="r" b="b"/>
            <a:pathLst>
              <a:path fill="none" w="2329" h="636">
                <a:moveTo>
                  <a:pt x="2329" y="636"/>
                </a:moveTo>
                <a:lnTo>
                  <a:pt x="2329" y="636"/>
                </a:lnTo>
                <a:cubicBezTo>
                  <a:pt x="2328" y="525"/>
                  <a:pt x="2221" y="415"/>
                  <a:pt x="2017" y="319"/>
                </a:cubicBezTo>
                <a:cubicBezTo>
                  <a:pt x="1813" y="222"/>
                  <a:pt x="1519" y="141"/>
                  <a:pt x="1165" y="85"/>
                </a:cubicBezTo>
                <a:cubicBezTo>
                  <a:pt x="810" y="29"/>
                  <a:pt x="409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5638680"/>
            <a:ext cx="11430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257800"/>
            <a:ext cx="990720" cy="12193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5638680"/>
            <a:ext cx="11430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346480" y="5668920"/>
            <a:ext cx="495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74747"/>
                </a:solidFill>
                <a:latin typeface="Arial"/>
                <a:ea typeface="Arial"/>
              </a:rPr>
              <a:t>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937040" y="56689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74747"/>
                </a:solidFill>
                <a:latin typeface="Arial"/>
                <a:ea typeface="Arial"/>
              </a:rPr>
              <a:t>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69960" y="4175280"/>
            <a:ext cx="135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39625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358128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41911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35053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00800" y="380988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44197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10280" y="3581280"/>
            <a:ext cx="228600" cy="3049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4572000"/>
            <a:ext cx="228600" cy="3049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43800" y="3733920"/>
            <a:ext cx="22860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4648320"/>
            <a:ext cx="22860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373392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715000" y="411480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867280" y="3581280"/>
            <a:ext cx="30492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40384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3657600"/>
            <a:ext cx="7632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019920" y="388620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495680"/>
            <a:ext cx="60984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705720" y="3733920"/>
            <a:ext cx="3045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05720" y="4648320"/>
            <a:ext cx="76680" cy="228960"/>
          </a:xfrm>
          <a:custGeom>
            <a:avLst/>
            <a:gdLst/>
            <a:ahLst/>
            <a:rect l="0" t="0" r="r" b="b"/>
            <a:pathLst>
              <a:path fill="none" w="213" h="636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29"/>
                  <a:pt x="106" y="85"/>
                </a:cubicBezTo>
                <a:cubicBezTo>
                  <a:pt x="74" y="141"/>
                  <a:pt x="47" y="221"/>
                  <a:pt x="29" y="318"/>
                </a:cubicBezTo>
                <a:cubicBezTo>
                  <a:pt x="10" y="415"/>
                  <a:pt x="0" y="524"/>
                  <a:pt x="0" y="636"/>
                </a:cubicBezTo>
              </a:path>
            </a:pathLst>
          </a:custGeom>
          <a:ln w="12600">
            <a:solidFill>
              <a:srgbClr val="d5091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9880" y="5867280"/>
            <a:ext cx="990720" cy="0"/>
          </a:xfrm>
          <a:prstGeom prst="line">
            <a:avLst/>
          </a:prstGeom>
          <a:ln w="76320">
            <a:solidFill>
              <a:srgbClr val="d50915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86728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57600" y="5334120"/>
            <a:ext cx="838080" cy="380880"/>
          </a:xfrm>
          <a:prstGeom prst="rect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641760" y="543240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38280" y="4191120"/>
            <a:ext cx="1448280" cy="1143360"/>
          </a:xfrm>
          <a:custGeom>
            <a:avLst/>
            <a:gdLst/>
            <a:ahLst/>
            <a:rect l="0" t="0" r="r" b="b"/>
            <a:pathLst>
              <a:path fill="none" w="4023" h="3176">
                <a:moveTo>
                  <a:pt x="4023" y="3176"/>
                </a:moveTo>
                <a:lnTo>
                  <a:pt x="4023" y="3176"/>
                </a:lnTo>
                <a:lnTo>
                  <a:pt x="4023" y="3176"/>
                </a:lnTo>
                <a:cubicBezTo>
                  <a:pt x="4023" y="2618"/>
                  <a:pt x="3837" y="2071"/>
                  <a:pt x="3484" y="1588"/>
                </a:cubicBezTo>
                <a:cubicBezTo>
                  <a:pt x="3131" y="1105"/>
                  <a:pt x="2623" y="704"/>
                  <a:pt x="2011" y="426"/>
                </a:cubicBezTo>
                <a:cubicBezTo>
                  <a:pt x="1400" y="147"/>
                  <a:pt x="70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238880" y="3657600"/>
            <a:ext cx="76680" cy="228960"/>
          </a:xfrm>
          <a:custGeom>
            <a:avLst/>
            <a:gdLst/>
            <a:ahLst/>
            <a:rect l="0" t="0" r="r" b="b"/>
            <a:pathLst>
              <a:path fill="none" w="213" h="636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29"/>
                  <a:pt x="106" y="85"/>
                </a:cubicBezTo>
                <a:cubicBezTo>
                  <a:pt x="74" y="141"/>
                  <a:pt x="47" y="221"/>
                  <a:pt x="29" y="318"/>
                </a:cubicBezTo>
                <a:cubicBezTo>
                  <a:pt x="10" y="415"/>
                  <a:pt x="0" y="524"/>
                  <a:pt x="0" y="636"/>
                </a:cubicBezTo>
              </a:path>
            </a:pathLst>
          </a:custGeom>
          <a:ln w="12600">
            <a:solidFill>
              <a:srgbClr val="d5091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7238880" y="3733920"/>
            <a:ext cx="304920" cy="75960"/>
          </a:xfrm>
          <a:prstGeom prst="line">
            <a:avLst/>
          </a:prstGeom>
          <a:ln w="12600">
            <a:solidFill>
              <a:srgbClr val="d5091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4724280"/>
            <a:ext cx="304560" cy="0"/>
          </a:xfrm>
          <a:prstGeom prst="line">
            <a:avLst/>
          </a:prstGeom>
          <a:ln w="12600">
            <a:solidFill>
              <a:srgbClr val="d50915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32280" y="44038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461280" y="524196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Contai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d50915"/>
                </a:solidFill>
                <a:latin typeface="Book Antiqua"/>
                <a:ea typeface="Book Antiqua"/>
              </a:rPr>
              <a:t>Accelerating Network 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grammabl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sibility of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curity by design, not after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itioning resources under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rtability and technology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ttp://www.cis.upenn.edu/~jms/SoftSwitch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Routing IP Pack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del: Store and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124080"/>
            <a:ext cx="5638680" cy="1523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75080" y="3328920"/>
            <a:ext cx="3703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Dequeue Packet from In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Determine “best” Out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Queue Packet on Out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224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4864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54864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46483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5410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54864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SwitchWare swi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e, COMPUTE and Forwar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3124080"/>
            <a:ext cx="5638680" cy="1523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75080" y="3328920"/>
            <a:ext cx="37036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2224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4864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4864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743200" y="46483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5410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48720" y="54864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74880" y="2421000"/>
            <a:ext cx="2711520" cy="2552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43200" y="3505320"/>
            <a:ext cx="1676880" cy="1143360"/>
          </a:xfrm>
          <a:custGeom>
            <a:avLst/>
            <a:gdLst/>
            <a:ahLst/>
            <a:rect l="0" t="0" r="r" b="b"/>
            <a:pathLst>
              <a:path fill="none" w="4658" h="3176">
                <a:moveTo>
                  <a:pt x="4658" y="0"/>
                </a:moveTo>
                <a:lnTo>
                  <a:pt x="4658" y="0"/>
                </a:lnTo>
                <a:cubicBezTo>
                  <a:pt x="3840" y="0"/>
                  <a:pt x="3037" y="147"/>
                  <a:pt x="2329" y="426"/>
                </a:cubicBezTo>
                <a:cubicBezTo>
                  <a:pt x="1621" y="704"/>
                  <a:pt x="1033" y="1105"/>
                  <a:pt x="624" y="1588"/>
                </a:cubicBezTo>
                <a:cubicBezTo>
                  <a:pt x="215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495680"/>
            <a:ext cx="533160" cy="15264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429000"/>
            <a:ext cx="304920" cy="152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55960" y="371016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55960" y="371016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Switch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Challenges for Active N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981080"/>
            <a:ext cx="8510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celerate service creation with programmable network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lancing flexibility an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 hoc architectures difficult to t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this just another O.S.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d50915"/>
                </a:solidFill>
                <a:latin typeface="Book Antiqua"/>
                <a:ea typeface="Book Antiqua"/>
              </a:rPr>
              <a:t>Security IS NOT Cryptography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curity in a network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r iden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ource naming and access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mission and pol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licit policies, enforcement and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Sharing and Secu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384720" y="249084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cation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4280" y="2200320"/>
            <a:ext cx="357120" cy="1452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5320" y="2200320"/>
            <a:ext cx="357120" cy="1452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28840" y="2200320"/>
            <a:ext cx="357120" cy="1452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34040" y="2200320"/>
            <a:ext cx="357120" cy="1452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5240" y="5262480"/>
            <a:ext cx="2428920" cy="95256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13200" y="5464080"/>
            <a:ext cx="1413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heduler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ultiplex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8680" y="5178600"/>
            <a:ext cx="13701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adi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per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0040" y="4071960"/>
            <a:ext cx="82868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029120" y="3678120"/>
            <a:ext cx="1327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18080" y="4130640"/>
            <a:ext cx="194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vel Bound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5080" y="3666960"/>
            <a:ext cx="3000240" cy="1595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3920" y="3643200"/>
            <a:ext cx="2333880" cy="1619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48080" y="3643200"/>
            <a:ext cx="1809720" cy="1595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05320" y="3666960"/>
            <a:ext cx="2809800" cy="157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d50915"/>
                </a:solidFill>
                <a:latin typeface="Book Antiqua"/>
                <a:ea typeface="Book Antiqua"/>
              </a:rPr>
              <a:t>A Language-Oriente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witchlet Language for users (S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ormal semantics restrict progra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ire Language for communicating (W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ormal semantics across bounda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frastructure Language for Virtual Machine (I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ormal semantics supported on metal: run-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Penn/Bellcore Active Rou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ML byte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/Ca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262640" y="1981080"/>
            <a:ext cx="1195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160" y="2452680"/>
            <a:ext cx="728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0160" y="3033720"/>
            <a:ext cx="728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800" spc="-1" strike="noStrike">
                <a:solidFill>
                  <a:srgbClr val="d50915"/>
                </a:solidFill>
                <a:latin typeface="Book Antiqua"/>
                <a:ea typeface="Book Antiqua"/>
              </a:rPr>
              <a:t>Penn/Bellcore SwitchWare Targe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9160" y="1981080"/>
            <a:ext cx="754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ifiable ML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crypted Verified Intermediate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L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786800" y="1981080"/>
            <a:ext cx="1171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8480" y="2452680"/>
            <a:ext cx="794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8480" y="3009960"/>
            <a:ext cx="794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M. Smith</dc:creator>
  <dc:description/>
  <dc:language>en-US</dc:language>
  <cp:lastModifiedBy>Desktop Services</cp:lastModifiedBy>
  <cp:revision>0</cp:revision>
  <dc:subject>Slides for AN Workshop March 5</dc:subject>
  <dc:title>ARPA Active Nets</dc:title>
</cp:coreProperties>
</file>